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944532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944532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3F294-C365-4AC8-957B-8F2D2A5D761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4FA0E-BEF6-415C-BBD2-919DC2F5B6FD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B7564-4614-4D9D-BC2E-A0A5E371313C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8BCB37-A246-4915-B58E-EBB81FA2C157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F32D6-081B-4894-9D62-B936141F3A2D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FC2D2-2E71-4D85-B465-E3244C1CC585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7A8BE-371F-4C21-94E0-A4ACE8816E21}" type="slidenum">
              <a:rPr b="0" lang="cs-CZ" sz="1200" spc="-1" strike="noStrike">
                <a:solidFill>
                  <a:srgbClr val="3c3c8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3F837-9659-40B3-9F9F-E861201164BF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492B1-3145-4F0E-8F98-6BB7FF4AFE2C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E95A9-F81D-4AC1-95D4-94ED0EEBFC37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416EE-D797-43FF-9AAE-36B0B735DD52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257BE-FEDB-4165-82C6-1B874CACADF9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0E26C-28AA-43EB-AF23-471525643876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FCB90-8DEC-4893-BC64-D9415B1CFA3F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EFA3B-92C9-4E9A-9824-3A5DF135EDF6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705A-9C70-4D6B-8A36-1A13C0BAD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0195-2214-4192-A4CD-AFCDD8081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128E-B59C-4568-B570-74D679189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6444-41EB-4E76-BDC8-C4C981136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53BC-7627-40B5-967A-C6A375E25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2B15-613F-4F78-B071-A602EEAF2A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0A33-2951-4359-BC84-8ED46BDD5E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5A9F-4AA8-4DE9-8457-9AEEEC4AFC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1916-A1C6-4B95-88C2-376DE5E69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EE29-EAFA-4FDC-8936-EF5BC6DF84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9078-FD8E-4AF8-ADF7-16FDF48546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1712-1250-41BB-87DF-F4F2E93A8E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6D32-94CB-4EFB-B7E4-1D188B8B1A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BECE-7334-4A24-A838-DE072B98A7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2AA4-A6F9-4F87-9899-17934C1D27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0D5F-CF4D-452F-8258-F2D5A094B9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7D98-9402-4208-96C2-5EF7100204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9E49-5F48-4F19-BB35-7578881165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7639-BF67-42CF-A538-30E66E801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EB9C-DC67-4AA2-BD90-9AA2107B1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91BB-0A28-4EDE-BF76-ACD813011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A112-B9D2-43FF-BEB8-99DC34ECD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1D31-9BCC-4CED-9D10-74A5CEF19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B876-D03A-4695-9849-4C8E57943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prezentaceOPPa_S2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c3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608F-8CD2-4C7C-A0B1-41EE76648327}" type="slidenum">
              <a:rPr b="0" lang="cs-CZ" sz="1400" spc="-1" strike="noStrike">
                <a:solidFill>
                  <a:srgbClr val="3c3c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6838920" y="636156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d42e12"/>
                </a:solidFill>
                <a:latin typeface="Arial"/>
              </a:rPr>
              <a:t>WWW.OPPA.CZ</a:t>
            </a:r>
            <a:endParaRPr b="0" lang="en-US" sz="9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9" descr="prezentaceOPPa_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atelier_zidlicky\S4U\sablony_dokumentu\ppt_vyroba\logo_ppt.jpg"/>
          <p:cNvPicPr/>
          <p:nvPr/>
        </p:nvPicPr>
        <p:blipFill>
          <a:blip r:embed="rId3"/>
          <a:stretch/>
        </p:blipFill>
        <p:spPr>
          <a:xfrm>
            <a:off x="720720" y="720720"/>
            <a:ext cx="3240000" cy="673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4" descr="prezentaceOPPa_S2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6838920" y="636156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d42e12"/>
                </a:solidFill>
                <a:latin typeface="Arial"/>
              </a:rPr>
              <a:t>WWW.OPPA.CZ</a:t>
            </a:r>
            <a:endParaRPr b="0" lang="en-US" sz="9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21" name="Picture 2" descr="D:\atelier_zidlicky\S4U\sablony_dokumentu\ppt_vyroba\zahlavi.jpg"/>
          <p:cNvPicPr/>
          <p:nvPr/>
        </p:nvPicPr>
        <p:blipFill>
          <a:blip r:embed="rId3"/>
          <a:stretch/>
        </p:blipFill>
        <p:spPr>
          <a:xfrm>
            <a:off x="0" y="0"/>
            <a:ext cx="9180360" cy="771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atelier_zidlicky\S4U\sablony_dokumentu\ppt_vyroba\logo_ppt.jpg"/>
          <p:cNvPicPr/>
          <p:nvPr/>
        </p:nvPicPr>
        <p:blipFill>
          <a:blip r:embed="rId4"/>
          <a:stretch/>
        </p:blipFill>
        <p:spPr>
          <a:xfrm>
            <a:off x="539640" y="236520"/>
            <a:ext cx="1440000" cy="298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5"/>
          <p:cNvSpPr/>
          <p:nvPr/>
        </p:nvSpPr>
        <p:spPr>
          <a:xfrm>
            <a:off x="6757560" y="6332040"/>
            <a:ext cx="180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b6a0a"/>
                </a:solidFill>
                <a:latin typeface="Arial"/>
                <a:ea typeface="Arial"/>
              </a:rPr>
              <a:t>www.system4u.com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2"/>
          </p:nvPr>
        </p:nvSpPr>
        <p:spPr>
          <a:xfrm>
            <a:off x="6500520" y="231480"/>
            <a:ext cx="20667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Název prezent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identity.apple.com/pushcert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developers.google.com/android/c2d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39680" y="248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amsung KNOX</a:t>
            </a:r>
            <a:endParaRPr b="1" lang="en-US" sz="28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39680" y="5591160"/>
            <a:ext cx="64008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Daniel Vodrážka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březen 2014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7077240" y="4437000"/>
            <a:ext cx="1514160" cy="10670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46080" y="3952800"/>
            <a:ext cx="49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d42e12"/>
                </a:solidFill>
                <a:latin typeface="Arial"/>
              </a:rPr>
              <a:t>PRAHA </a:t>
            </a:r>
            <a:r>
              <a:rPr b="1" lang="en-US" sz="1800" spc="-1" strike="noStrike">
                <a:solidFill>
                  <a:srgbClr val="d42e12"/>
                </a:solidFill>
                <a:latin typeface="Arial"/>
              </a:rPr>
              <a:t>&amp; EU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STUJEME DO VA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ŠÍ BUDOUCNOSTI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038240" y="1236600"/>
            <a:ext cx="640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EVROPSKÝ SOCIÁLNÍ FOND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</a:rPr>
              <a:t>PUSH – Apple APNS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Používáno od iOS 3.0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Notifikace pomocí MDM serveru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Doručována je pouze notifikac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Registrace MDM serveru posílajícího notifikace pomocí certifikátu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85a1"/>
                </a:solidFill>
                <a:uFillTx/>
                <a:latin typeface="Arial"/>
                <a:hlinkClick r:id="rId1"/>
              </a:rPr>
              <a:t>https://identity.apple.com/pushcer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Apple Developer API, dokumentace pro vývojář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08" name="Picture 2" descr="http://boxedice.files.wordpress.com/2009/07/remote_notif_simple.jpg"/>
          <p:cNvPicPr/>
          <p:nvPr/>
        </p:nvPicPr>
        <p:blipFill>
          <a:blip r:embed="rId2"/>
          <a:stretch/>
        </p:blipFill>
        <p:spPr>
          <a:xfrm>
            <a:off x="1116000" y="4941720"/>
            <a:ext cx="6210360" cy="857520"/>
          </a:xfrm>
          <a:prstGeom prst="rect">
            <a:avLst/>
          </a:prstGeom>
          <a:ln w="0">
            <a:noFill/>
          </a:ln>
        </p:spPr>
      </p:pic>
      <p:sp>
        <p:nvSpPr>
          <p:cNvPr id="209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9F95-3B4B-4554-B102-6276F989DD72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</a:rPr>
              <a:t>PUSH – Google GCM (C2MS)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Používáno od Android 2.2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Aplikace nemusí běžet – systém aplikaci nastartuj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Doručována je pouze notifikac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Propojeno s Google services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Uživatel musí mít google account na mobilním zařízen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Kompletní dokumentace pro vývojáře, API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12" name="Picture 2" descr="C:\Users\edward.plch\Desktop\New Web\Android\Android-Logo-3D.jpg"/>
          <p:cNvPicPr/>
          <p:nvPr/>
        </p:nvPicPr>
        <p:blipFill>
          <a:blip r:embed="rId1"/>
          <a:stretch/>
        </p:blipFill>
        <p:spPr>
          <a:xfrm>
            <a:off x="1763640" y="422100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213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5F44-746D-4DF8-B832-D82CDDF94546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39680" y="248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ystem4u a mobilní řešení</a:t>
            </a:r>
            <a:endParaRPr b="1" lang="en-US" sz="28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</a:rPr>
              <a:t>System4u a mobilní zařízení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Práce s firemními mobilními řešeními od roku 2007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Detailní znalost hlavních mobilních platforem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Centrum podpory 24/7/365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Komplexní služby Enterprise mobility (konzultace, návrh, licence, implementace, školení, podpora, vývoj mobilních aplikací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Máme mezi námi mobilní nadšenc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Jsme pružná firma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Zákazníkovi navrhneme optimální MDM dle jeho potřeb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Velká podobnost MDM řešení, liší se detaily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Jsme partnerem MobileIron, Citrix, BlackBerry, Samsung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Známe i jiná MDM řešení, máme ucelený přehled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99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99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285840" indent="-268200">
              <a:spcBef>
                <a:spcPts val="499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6842160" y="1706400"/>
            <a:ext cx="2065320" cy="75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7616880" y="4653000"/>
            <a:ext cx="1260360" cy="125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" descr=""/>
          <p:cNvPicPr/>
          <p:nvPr/>
        </p:nvPicPr>
        <p:blipFill>
          <a:blip r:embed="rId3"/>
          <a:stretch/>
        </p:blipFill>
        <p:spPr>
          <a:xfrm>
            <a:off x="6740640" y="1160640"/>
            <a:ext cx="2146320" cy="38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4"/>
          <a:stretch/>
        </p:blipFill>
        <p:spPr>
          <a:xfrm>
            <a:off x="7300800" y="3344760"/>
            <a:ext cx="1663920" cy="932040"/>
          </a:xfrm>
          <a:prstGeom prst="rect">
            <a:avLst/>
          </a:prstGeom>
          <a:ln w="0">
            <a:noFill/>
          </a:ln>
        </p:spPr>
      </p:pic>
      <p:sp>
        <p:nvSpPr>
          <p:cNvPr id="221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0440-46DE-43AE-827D-9A0F51369248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615960" y="1600200"/>
            <a:ext cx="81406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8c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927080" y="5591160"/>
            <a:ext cx="5613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Daniel Vodrážka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březen 2014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</a:rPr>
              <a:t>Samsung KNOX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= virtuální zařízení ve fyzickém zařízení Android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Rozšíření programu Samsung SAF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Přináší novou funkcionalitu: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2" marL="74304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Platform security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3" marL="120024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Secure boo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3" marL="120024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ARM Trustzone-based Integrity Measurement Architecture (TIMA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3" marL="120024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3c3c8c"/>
                </a:solidFill>
                <a:latin typeface="Arial"/>
              </a:rPr>
              <a:t>ernel </a:t>
            </a: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se zabudovanou technologií</a:t>
            </a:r>
            <a:r>
              <a:rPr b="0" lang="en-US" sz="1800" spc="-1" strike="noStrike">
                <a:solidFill>
                  <a:srgbClr val="3c3c8c"/>
                </a:solidFill>
                <a:latin typeface="Arial"/>
              </a:rPr>
              <a:t> Security Enhancements for Android (SE for Androi</a:t>
            </a: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d) – řízení přístupu k datům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2" marL="74304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Rozšířené zabezpečení aplikac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3" marL="120024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Šifrování a správa firemních da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3" marL="120024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Izolace firemních aplikací od zbytku systému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Licencováno per devic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6989760" y="1413000"/>
            <a:ext cx="1581120" cy="2162160"/>
          </a:xfrm>
          <a:prstGeom prst="rect">
            <a:avLst/>
          </a:prstGeom>
          <a:ln w="0">
            <a:noFill/>
          </a:ln>
        </p:spPr>
      </p:pic>
      <p:sp>
        <p:nvSpPr>
          <p:cNvPr id="178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A096-35EC-4CA0-B101-080F800829AE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</a:rPr>
              <a:t>Samsung KNOX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0" t="0" r="0" b="6661"/>
          <a:stretch/>
        </p:blipFill>
        <p:spPr>
          <a:xfrm>
            <a:off x="3564000" y="1844640"/>
            <a:ext cx="2852640" cy="4168800"/>
          </a:xfrm>
          <a:prstGeom prst="rect">
            <a:avLst/>
          </a:prstGeom>
          <a:ln w="0">
            <a:noFill/>
          </a:ln>
        </p:spPr>
      </p:pic>
      <p:sp>
        <p:nvSpPr>
          <p:cNvPr id="181" name="Left Brace 5"/>
          <p:cNvSpPr/>
          <p:nvPr/>
        </p:nvSpPr>
        <p:spPr>
          <a:xfrm>
            <a:off x="2844720" y="3508200"/>
            <a:ext cx="365040" cy="2287800"/>
          </a:xfrm>
          <a:custGeom>
            <a:avLst/>
            <a:gdLst>
              <a:gd name="textAreaLeft" fmla="*/ 233280 w 365040"/>
              <a:gd name="textAreaRight" fmla="*/ 365400 w 365040"/>
              <a:gd name="textAreaTop" fmla="*/ 9360 h 2287800"/>
              <a:gd name="textAreaBottom" fmla="*/ 227844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7"/>
                </a:cubicBezTo>
                <a:lnTo>
                  <a:pt x="10800" y="10513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7"/>
                </a:cubicBezTo>
                <a:lnTo>
                  <a:pt x="10800" y="21313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d42e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1279080" y="4259160"/>
            <a:ext cx="121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5cb9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5cb9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83" name="Left Brace 7"/>
          <p:cNvSpPr/>
          <p:nvPr/>
        </p:nvSpPr>
        <p:spPr>
          <a:xfrm>
            <a:off x="2809800" y="3117960"/>
            <a:ext cx="428760" cy="226800"/>
          </a:xfrm>
          <a:custGeom>
            <a:avLst/>
            <a:gdLst>
              <a:gd name="textAreaLeft" fmla="*/ 273960 w 428760"/>
              <a:gd name="textAreaRight" fmla="*/ 429120 w 428760"/>
              <a:gd name="textAreaTop" fmla="*/ 5760 h 226800"/>
              <a:gd name="textAreaBottom" fmla="*/ 221040 h 22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d42e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968040" y="285120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5cb9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5cb9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8AA-B3C8-4757-9FE5-E33FC5EDC171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</a:rPr>
              <a:t>MobileIron a Samsung KNOX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5600" y="1600200"/>
            <a:ext cx="4892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Správa licencí KNOX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2" marL="74304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Prodej a distribuce licenc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Vytvoření a smazání kontejneru Knox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Vynucení a nastavení hesla ke kontejneru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Konfigurace emailu v prostředí Knox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Konfigurace zabezpečeného prohlížeč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Instalace aplikací do kontejneru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Konfigurace VPN z prostředí KNOX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Povolení/zakázání kontejneru KNOX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5508720" y="3141720"/>
            <a:ext cx="3448080" cy="2276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273720" y="2100240"/>
            <a:ext cx="1781280" cy="1041480"/>
          </a:xfrm>
          <a:prstGeom prst="rect">
            <a:avLst/>
          </a:prstGeom>
          <a:ln w="0">
            <a:noFill/>
          </a:ln>
        </p:spPr>
      </p:pic>
      <p:sp>
        <p:nvSpPr>
          <p:cNvPr id="190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D72D-361B-4218-9E6E-1F5399A9E373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39680" y="248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bilní řešení – datová komunikace, připojení k sítím, problematika data push</a:t>
            </a:r>
            <a:endParaRPr b="1" lang="en-US" sz="28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</a:rPr>
              <a:t>Připojení mobilního zařízení k síti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Média připojení = způsob připojení k internetu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Síť mobilního operátora (EDGE, 3G, 4G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Wi-Fi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Pevné připojení (přes PC, Bluetooth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34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Internet a vlastní sítě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2" marL="714240" indent="-26352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Připojení zařízení přes interne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Síť BlackBerry, Network Operation Cente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Good for Enteprise Operation Cente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6611-099B-4925-82D6-2D659639E87A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</a:rPr>
              <a:t>Přenos dat - běžná síťová infrastruktura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Používaná všemi mobilními platformami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Záleží na zařízení, kam a kdy se připoj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Servery musí být publikované do internetu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Serverové certifikáty, problematika důvěryhodnosti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97" name="Obrázek 2" descr=""/>
          <p:cNvPicPr/>
          <p:nvPr/>
        </p:nvPicPr>
        <p:blipFill>
          <a:blip r:embed="rId1"/>
          <a:stretch/>
        </p:blipFill>
        <p:spPr>
          <a:xfrm>
            <a:off x="1547640" y="3933720"/>
            <a:ext cx="6480360" cy="2408400"/>
          </a:xfrm>
          <a:prstGeom prst="rect">
            <a:avLst/>
          </a:prstGeom>
          <a:ln w="0">
            <a:noFill/>
          </a:ln>
        </p:spPr>
      </p:pic>
      <p:sp>
        <p:nvSpPr>
          <p:cNvPr id="198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266F-A90C-47D2-823C-CF24676CC0FE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</a:rPr>
              <a:t>Síťová infrastruktura BlackBerry (… Good podobně)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Používaná zařízeními BlackBerry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Zařízení se může připojit jen do NOC (Network Operation Center), BES server se může připojit jen do NOC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Na zařízení čeká v NOC politika a data = bezpečnostní nastavení budou mít vždy přednost před jinými daty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Šifrování komunikace AES 256 bits, možnost vytvoření a připojení vlastní šifrovací engin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Skutečný data push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01" name="Obrázek 1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6480000" cy="1798560"/>
          </a:xfrm>
          <a:prstGeom prst="rect">
            <a:avLst/>
          </a:prstGeom>
          <a:ln w="0">
            <a:noFill/>
          </a:ln>
        </p:spPr>
      </p:pic>
      <p:sp>
        <p:nvSpPr>
          <p:cNvPr id="202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AF71-BFF1-4926-8C90-DC51832010C1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</a:rPr>
              <a:t>Připojení mobilního zařízení k síti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1" marL="268560" indent="-2520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Technologie PUSH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Co je to PUSH – vynucené doručení da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Proč je PUSH důležité u mobilních zařízení?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Jak technicky PUSH funguje?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PUSH v operačním systému a v aplikacích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QUASI PUSH – pull, SMS, persistant TCP/IP vyvolané aplikac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Co je to notifikace?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4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Přenos notifikace x přenos da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349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50560" indent="-2505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Řešení PUSH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BlackBerry – RIM Network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iOS - Apple Push Notification Service (APNS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268560" indent="-2520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Android – GCM (Google Cloud Messaging) , C2DM (Cloud to Device Messaging Service), open source a placená řešen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2" marL="1011600" indent="-1713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85a1"/>
                </a:solidFill>
                <a:uFillTx/>
                <a:latin typeface="Arial"/>
                <a:hlinkClick r:id="rId1"/>
              </a:rPr>
              <a:t>https://developers.google.com/android/c2dm/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50560" indent="-2505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F746-42DF-4573-99FC-ADBDCE5F1678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4:57:32Z</dcterms:created>
  <dc:creator>Jiří Kinský</dc:creator>
  <dc:description/>
  <dc:language>en-US</dc:language>
  <cp:lastModifiedBy>Terezka</cp:lastModifiedBy>
  <dcterms:modified xsi:type="dcterms:W3CDTF">2014-07-11T08:07:16Z</dcterms:modified>
  <cp:revision>57</cp:revision>
  <dc:subject/>
  <dc:title>NÁZEV PREZENTACE</dc:title>
</cp:coreProperties>
</file>