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9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dt" idx="5"/>
          </p:nvPr>
        </p:nvSpPr>
        <p:spPr>
          <a:xfrm>
            <a:off x="388440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7d417"/>
                </a:solidFill>
                <a:latin typeface="Arial"/>
              </a:rPr>
              <a:t>Click to move the slide</a:t>
            </a: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ftr" idx="6"/>
          </p:nvPr>
        </p:nvSpPr>
        <p:spPr>
          <a:xfrm>
            <a:off x="-360" y="944532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 type="sldNum" idx="7"/>
          </p:nvPr>
        </p:nvSpPr>
        <p:spPr>
          <a:xfrm>
            <a:off x="3884400" y="944532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F2F501-6A7C-4F3E-A674-7619E0F68F0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Zástupný symbol pro číslo snímku 3"/>
          <p:cNvSpPr/>
          <p:nvPr/>
        </p:nvSpPr>
        <p:spPr>
          <a:xfrm>
            <a:off x="3884760" y="944568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A0ECC8-BB0F-4FA7-AD3B-EDCD0F31201D}" type="slidenum">
              <a:rPr b="0" lang="cs-CZ" sz="1200" spc="-1" strike="noStrike">
                <a:solidFill>
                  <a:srgbClr val="3c3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c3c8c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Zástupný symbol pro číslo snímku 3"/>
          <p:cNvSpPr/>
          <p:nvPr/>
        </p:nvSpPr>
        <p:spPr>
          <a:xfrm>
            <a:off x="3884760" y="944568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743BB9-3B85-41AC-8466-00F11592E640}" type="slidenum">
              <a:rPr b="0" lang="cs-CZ" sz="1200" spc="-1" strike="noStrike">
                <a:solidFill>
                  <a:srgbClr val="3c3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c3c8c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Zástupný symbol pro číslo snímku 3"/>
          <p:cNvSpPr/>
          <p:nvPr/>
        </p:nvSpPr>
        <p:spPr>
          <a:xfrm>
            <a:off x="3884760" y="944568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AE284C-9904-46CB-8893-D96122613CAB}" type="slidenum">
              <a:rPr b="0" lang="cs-CZ" sz="1200" spc="-1" strike="noStrike">
                <a:solidFill>
                  <a:srgbClr val="3c3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c3c8c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Zástupný symbol pro číslo snímku 3"/>
          <p:cNvSpPr/>
          <p:nvPr/>
        </p:nvSpPr>
        <p:spPr>
          <a:xfrm>
            <a:off x="3884760" y="944568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32B725-2C6B-4FD3-9F18-FAE933E263A3}" type="slidenum">
              <a:rPr b="0" lang="cs-CZ" sz="1200" spc="-1" strike="noStrike">
                <a:solidFill>
                  <a:srgbClr val="3c3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c3c8c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Zástupný symbol pro číslo snímku 3"/>
          <p:cNvSpPr/>
          <p:nvPr/>
        </p:nvSpPr>
        <p:spPr>
          <a:xfrm>
            <a:off x="3884760" y="944568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3D158F-D845-4321-B59E-ACD76A84BB0D}" type="slidenum">
              <a:rPr b="0" lang="cs-CZ" sz="1200" spc="-1" strike="noStrike">
                <a:solidFill>
                  <a:srgbClr val="3c3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c3c8c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Zástupný symbol pro číslo snímku 3"/>
          <p:cNvSpPr/>
          <p:nvPr/>
        </p:nvSpPr>
        <p:spPr>
          <a:xfrm>
            <a:off x="3884760" y="944568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F9E0C0-EDF9-4076-8201-0261FCEDBAB1}" type="slidenum">
              <a:rPr b="0" lang="cs-CZ" sz="1200" spc="-1" strike="noStrike">
                <a:solidFill>
                  <a:srgbClr val="3c3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c3c8c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Zástupný symbol pro číslo snímku 3"/>
          <p:cNvSpPr/>
          <p:nvPr/>
        </p:nvSpPr>
        <p:spPr>
          <a:xfrm>
            <a:off x="3884760" y="944568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AA0F16-4C7F-4970-BD88-076985C12849}" type="slidenum">
              <a:rPr b="0" lang="cs-CZ" sz="1200" spc="-1" strike="noStrike">
                <a:solidFill>
                  <a:srgbClr val="3c3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c3c8c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Zástupný symbol pro číslo snímku 3"/>
          <p:cNvSpPr/>
          <p:nvPr/>
        </p:nvSpPr>
        <p:spPr>
          <a:xfrm>
            <a:off x="3884760" y="944568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F2DC09-866C-46CC-861F-0D7C71D4811A}" type="slidenum">
              <a:rPr b="0" lang="cs-CZ" sz="1200" spc="-1" strike="noStrike">
                <a:solidFill>
                  <a:srgbClr val="3c3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c3c8c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Zástupný symbol pro číslo snímku 3"/>
          <p:cNvSpPr/>
          <p:nvPr/>
        </p:nvSpPr>
        <p:spPr>
          <a:xfrm>
            <a:off x="3884760" y="944568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5E3655-0C05-411E-9CA3-B2630E97B9C8}" type="slidenum">
              <a:rPr b="0" lang="cs-CZ" sz="1200" spc="-1" strike="noStrike">
                <a:solidFill>
                  <a:srgbClr val="3c3c8c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3c3c8c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Zástupný symbol pro číslo snímku 3"/>
          <p:cNvSpPr/>
          <p:nvPr/>
        </p:nvSpPr>
        <p:spPr>
          <a:xfrm>
            <a:off x="3884760" y="944568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93BFAD-0C05-4303-B8D3-98406F1F8AEB}" type="slidenum">
              <a:rPr b="0" lang="cs-CZ" sz="1200" spc="-1" strike="noStrike">
                <a:solidFill>
                  <a:srgbClr val="3c3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c3c8c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Zástupný symbol pro číslo snímku 3"/>
          <p:cNvSpPr/>
          <p:nvPr/>
        </p:nvSpPr>
        <p:spPr>
          <a:xfrm>
            <a:off x="3884760" y="944568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5C9DF3-46F5-48E0-BD46-52168012B6DF}" type="slidenum">
              <a:rPr b="0" lang="cs-CZ" sz="1200" spc="-1" strike="noStrike">
                <a:solidFill>
                  <a:srgbClr val="3c3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c3c8c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Zástupný symbol pro číslo snímku 3"/>
          <p:cNvSpPr/>
          <p:nvPr/>
        </p:nvSpPr>
        <p:spPr>
          <a:xfrm>
            <a:off x="3884760" y="944568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3AE150-81C6-495C-BE2C-D4B437BF7BB8}" type="slidenum">
              <a:rPr b="0" lang="cs-CZ" sz="1200" spc="-1" strike="noStrike">
                <a:solidFill>
                  <a:srgbClr val="3c3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c3c8c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Zástupný symbol pro číslo snímku 3"/>
          <p:cNvSpPr/>
          <p:nvPr/>
        </p:nvSpPr>
        <p:spPr>
          <a:xfrm>
            <a:off x="3884760" y="944568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93E215-5D5C-44A8-BDCA-9775CFC55A3A}" type="slidenum">
              <a:rPr b="0" lang="cs-CZ" sz="1200" spc="-1" strike="noStrike">
                <a:solidFill>
                  <a:srgbClr val="3c3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c3c8c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Zástupný symbol pro číslo snímku 3"/>
          <p:cNvSpPr/>
          <p:nvPr/>
        </p:nvSpPr>
        <p:spPr>
          <a:xfrm>
            <a:off x="3884760" y="944568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25B239-053A-404F-9E33-D3EE64F7DE13}" type="slidenum">
              <a:rPr b="0" lang="cs-CZ" sz="1200" spc="-1" strike="noStrike">
                <a:solidFill>
                  <a:srgbClr val="3c3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c3c8c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Zástupný symbol pro číslo snímku 3"/>
          <p:cNvSpPr/>
          <p:nvPr/>
        </p:nvSpPr>
        <p:spPr>
          <a:xfrm>
            <a:off x="3884760" y="944568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A7FC92-B225-4378-9340-458B89272850}" type="slidenum">
              <a:rPr b="0" lang="cs-CZ" sz="1200" spc="-1" strike="noStrike">
                <a:solidFill>
                  <a:srgbClr val="3c3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c3c8c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Zástupný symbol pro číslo snímku 3"/>
          <p:cNvSpPr/>
          <p:nvPr/>
        </p:nvSpPr>
        <p:spPr>
          <a:xfrm>
            <a:off x="3884760" y="944568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E39F00-F604-4DEA-930F-12B01E5A19A0}" type="slidenum">
              <a:rPr b="0" lang="cs-CZ" sz="1200" spc="-1" strike="noStrike">
                <a:solidFill>
                  <a:srgbClr val="3c3c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c3c8c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486D5-DB55-4318-9DA9-4765D1EB9D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5600" y="1600200"/>
            <a:ext cx="81406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5600" y="3964320"/>
            <a:ext cx="81406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54F4B-5B47-4BBE-8890-1A4368A312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5600" y="1600200"/>
            <a:ext cx="397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5600" y="3964320"/>
            <a:ext cx="397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7280" y="3964320"/>
            <a:ext cx="397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D3FFA-2521-47A8-8F32-6AD6696AD8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5600" y="1600200"/>
            <a:ext cx="26211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8160" y="1600200"/>
            <a:ext cx="26211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720" y="1600200"/>
            <a:ext cx="26211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15600" y="3964320"/>
            <a:ext cx="26211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8160" y="3964320"/>
            <a:ext cx="26211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720" y="3964320"/>
            <a:ext cx="26211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B9C79-5043-4335-A629-6B1C7FE676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15600" y="1600200"/>
            <a:ext cx="8140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15600" y="1600200"/>
            <a:ext cx="8140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5600" y="1600200"/>
            <a:ext cx="397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079280" y="236160"/>
            <a:ext cx="5848200" cy="347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5600" y="1600200"/>
            <a:ext cx="397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15600" y="3964320"/>
            <a:ext cx="397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15600" y="1600200"/>
            <a:ext cx="8140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CA76F-E9A2-4E04-B2D2-393E2EF5F6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5600" y="1600200"/>
            <a:ext cx="397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87280" y="3964320"/>
            <a:ext cx="397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5600" y="1600200"/>
            <a:ext cx="397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5600" y="3964320"/>
            <a:ext cx="81406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5600" y="1600200"/>
            <a:ext cx="81406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15600" y="3964320"/>
            <a:ext cx="81406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5600" y="1600200"/>
            <a:ext cx="397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15600" y="3964320"/>
            <a:ext cx="397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87280" y="3964320"/>
            <a:ext cx="397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5600" y="1600200"/>
            <a:ext cx="26211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68160" y="1600200"/>
            <a:ext cx="26211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20720" y="1600200"/>
            <a:ext cx="26211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15600" y="3964320"/>
            <a:ext cx="26211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68160" y="3964320"/>
            <a:ext cx="26211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20720" y="3964320"/>
            <a:ext cx="26211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15600" y="1600200"/>
            <a:ext cx="8140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15600" y="1600200"/>
            <a:ext cx="8140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15600" y="1600200"/>
            <a:ext cx="397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5600" y="1600200"/>
            <a:ext cx="8140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64C1F-C89E-4CF6-88F0-1ED84179A5D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079280" y="236160"/>
            <a:ext cx="5848200" cy="347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15600" y="1600200"/>
            <a:ext cx="397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15600" y="3964320"/>
            <a:ext cx="397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5600" y="1600200"/>
            <a:ext cx="397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87280" y="3964320"/>
            <a:ext cx="397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5600" y="1600200"/>
            <a:ext cx="397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5600" y="3964320"/>
            <a:ext cx="81406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5600" y="1600200"/>
            <a:ext cx="81406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15600" y="3964320"/>
            <a:ext cx="81406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5600" y="1600200"/>
            <a:ext cx="397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15600" y="3964320"/>
            <a:ext cx="397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87280" y="3964320"/>
            <a:ext cx="397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5600" y="1600200"/>
            <a:ext cx="26211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368160" y="1600200"/>
            <a:ext cx="26211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120720" y="1600200"/>
            <a:ext cx="26211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15600" y="3964320"/>
            <a:ext cx="26211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368160" y="3964320"/>
            <a:ext cx="26211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120720" y="3964320"/>
            <a:ext cx="26211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AE402-119D-48FF-A199-1182E7E2080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15600" y="1600200"/>
            <a:ext cx="8140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117AB-3202-49AF-B140-F988FCA18FD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5600" y="1600200"/>
            <a:ext cx="8140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5E148-63D2-4B0F-979B-886B10E023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5600" y="1600200"/>
            <a:ext cx="397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0BB47-7727-4D62-B326-00623BCC34B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15600" y="1600200"/>
            <a:ext cx="397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72142-0751-428E-863A-0C51BF05514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7DFD1-F5ED-465D-8E08-9497E0BCE9D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079280" y="236160"/>
            <a:ext cx="5848200" cy="347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F6DBD-6F4A-4C28-8DAA-08829AE8F02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15600" y="1600200"/>
            <a:ext cx="397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5600" y="3964320"/>
            <a:ext cx="397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1C016-4971-4BDA-852A-827DA73173A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5600" y="1600200"/>
            <a:ext cx="397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787280" y="3964320"/>
            <a:ext cx="397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4BEF7-1D12-4190-BA2E-7FE07705348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5600" y="1600200"/>
            <a:ext cx="397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5600" y="3964320"/>
            <a:ext cx="81406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1A932-01E3-4923-8DCC-E104F98ACF3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5600" y="1600200"/>
            <a:ext cx="81406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15600" y="3964320"/>
            <a:ext cx="81406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CB7E9-6F93-4AF7-B009-9B813911753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5600" y="1600200"/>
            <a:ext cx="397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15600" y="3964320"/>
            <a:ext cx="397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787280" y="3964320"/>
            <a:ext cx="397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7EB58-696F-46EF-95FC-340344C78FE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15600" y="1600200"/>
            <a:ext cx="26211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68160" y="1600200"/>
            <a:ext cx="26211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120720" y="1600200"/>
            <a:ext cx="26211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15600" y="3964320"/>
            <a:ext cx="26211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68160" y="3964320"/>
            <a:ext cx="26211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120720" y="3964320"/>
            <a:ext cx="26211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F70A1-0688-427E-94E7-E6A579F11AF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6773-6437-4306-B034-4A8913BF81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FBE63-4A95-4E2D-A570-4C6CDE9F264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615600" y="1600200"/>
            <a:ext cx="8140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9287-147D-43AF-8CAD-12EC43EF1E8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15600" y="1600200"/>
            <a:ext cx="8140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931F-10FE-4477-A80E-FE4591465CD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15600" y="1600200"/>
            <a:ext cx="397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553A-9799-43C1-A067-983BF8C8D22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02B3-1E39-4C64-A0F5-DC7A409BC15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1079280" y="236160"/>
            <a:ext cx="5848200" cy="347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B359-B8B6-4C76-BDDA-3188DF93BD4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15600" y="1600200"/>
            <a:ext cx="397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15600" y="3964320"/>
            <a:ext cx="397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A364-B54C-4117-AB8A-2D660368D92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5600" y="1600200"/>
            <a:ext cx="397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787280" y="3964320"/>
            <a:ext cx="397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8005-A2C9-4ECD-9487-0DCB60E54A7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15600" y="1600200"/>
            <a:ext cx="397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15600" y="3964320"/>
            <a:ext cx="81406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E780-9966-47ED-A4B7-6C706E16667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15600" y="1600200"/>
            <a:ext cx="81406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15600" y="3964320"/>
            <a:ext cx="81406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68A1-E059-4104-964F-A77B4DBCC44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5600" y="1600200"/>
            <a:ext cx="397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15600" y="3964320"/>
            <a:ext cx="397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787280" y="3964320"/>
            <a:ext cx="397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47B4-78A8-43AD-9CBC-27E42B3521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79280" y="236160"/>
            <a:ext cx="5848200" cy="347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9AD54-7048-4AA9-A845-68DAD89E77F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15600" y="1600200"/>
            <a:ext cx="26211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368160" y="1600200"/>
            <a:ext cx="26211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120720" y="1600200"/>
            <a:ext cx="26211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15600" y="3964320"/>
            <a:ext cx="26211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368160" y="3964320"/>
            <a:ext cx="26211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120720" y="3964320"/>
            <a:ext cx="26211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B85D-425D-4066-AC22-DF75B1A17D0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AB4176-3B08-42B5-BD04-E7F52B9EA01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615600" y="1600200"/>
            <a:ext cx="8140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F294F5-8B1C-469B-B629-C9855051D70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15600" y="1600200"/>
            <a:ext cx="8140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7F1899-3A2E-40B8-A50F-B91C55E0DF6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15600" y="1600200"/>
            <a:ext cx="397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BEDF60-CAAD-429E-A106-16C5A0AA108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AF4A1F-1A85-4470-A059-25EDA652449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1079280" y="236160"/>
            <a:ext cx="5848200" cy="347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9996F1-51B3-4E5B-B639-FA739A4EC48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15600" y="1600200"/>
            <a:ext cx="397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5600" y="3964320"/>
            <a:ext cx="397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720172-1832-4286-B537-F5BC9F08787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5600" y="1600200"/>
            <a:ext cx="397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787280" y="3964320"/>
            <a:ext cx="397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666B98-304C-47D2-8857-E22C93B09E9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5600" y="1600200"/>
            <a:ext cx="397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5600" y="3964320"/>
            <a:ext cx="81406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1E970C-404A-4A2B-B816-ABFCA90B2E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5600" y="1600200"/>
            <a:ext cx="397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15600" y="3964320"/>
            <a:ext cx="397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BFF9B-EF0B-4F50-B9A3-72B2DC28FA1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5600" y="1600200"/>
            <a:ext cx="81406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15600" y="3964320"/>
            <a:ext cx="81406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73B840-A76C-4829-87E3-9A86187020C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5600" y="1600200"/>
            <a:ext cx="397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15600" y="3964320"/>
            <a:ext cx="397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787280" y="3964320"/>
            <a:ext cx="397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644568-AEDB-401F-B36C-68BAD541753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5600" y="1600200"/>
            <a:ext cx="26211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368160" y="1600200"/>
            <a:ext cx="26211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120720" y="1600200"/>
            <a:ext cx="26211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615600" y="3964320"/>
            <a:ext cx="26211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368160" y="3964320"/>
            <a:ext cx="26211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120720" y="3964320"/>
            <a:ext cx="26211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EC7538-092D-41EF-9912-25D104BD00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5600" y="1600200"/>
            <a:ext cx="397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7280" y="3964320"/>
            <a:ext cx="397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02160-B661-4E46-8C45-418DD49B8E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5600" y="1600200"/>
            <a:ext cx="397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5600" y="3964320"/>
            <a:ext cx="81406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85C73-F0FA-4EF5-AF03-6750F4B9D8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4" descr="prezentaceOPPa_S2"/>
          <p:cNvPicPr/>
          <p:nvPr/>
        </p:nvPicPr>
        <p:blipFill>
          <a:blip r:embed="rId2"/>
          <a:stretch/>
        </p:blipFill>
        <p:spPr>
          <a:xfrm>
            <a:off x="0" y="0"/>
            <a:ext cx="9144000" cy="1285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15600" y="1600200"/>
            <a:ext cx="8140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spcBef>
                <a:spcPts val="60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8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  <a:p>
            <a:pPr lvl="1" marL="714240" indent="-268200">
              <a:spcBef>
                <a:spcPts val="601"/>
              </a:spcBef>
              <a:buClr>
                <a:srgbClr val="3c3c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8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  <a:p>
            <a:pPr lvl="2" marL="1076400" indent="-182520">
              <a:spcBef>
                <a:spcPts val="601"/>
              </a:spcBef>
              <a:buClr>
                <a:srgbClr val="3c3c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8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  <a:p>
            <a:pPr lvl="3" marL="1523880" indent="-268200">
              <a:spcBef>
                <a:spcPts val="601"/>
              </a:spcBef>
              <a:buClr>
                <a:srgbClr val="3c3c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8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  <a:p>
            <a:pPr lvl="4" marL="1886040" indent="-182520">
              <a:spcBef>
                <a:spcPts val="601"/>
              </a:spcBef>
              <a:buClr>
                <a:srgbClr val="3c3c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8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  <a:p>
            <a:pPr lvl="5" marL="1886040" indent="-182520">
              <a:spcBef>
                <a:spcPts val="601"/>
              </a:spcBef>
              <a:buClr>
                <a:srgbClr val="3c3c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8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  <a:p>
            <a:pPr lvl="6" marL="1886040" indent="-182520">
              <a:spcBef>
                <a:spcPts val="601"/>
              </a:spcBef>
              <a:buClr>
                <a:srgbClr val="3c3c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8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8167680" y="6191280"/>
            <a:ext cx="588960" cy="3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3c3c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913A9-A5C6-4AAC-9395-28BC11430915}" type="slidenum">
              <a:rPr b="0" lang="cs-CZ" sz="1400" spc="-1" strike="noStrike">
                <a:solidFill>
                  <a:srgbClr val="3c3c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7d417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4" name="Text Box 14"/>
          <p:cNvSpPr/>
          <p:nvPr/>
        </p:nvSpPr>
        <p:spPr>
          <a:xfrm>
            <a:off x="6838920" y="6361560"/>
            <a:ext cx="1295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d42e12"/>
                </a:solidFill>
                <a:latin typeface="Arial"/>
              </a:rPr>
              <a:t>WWW.OPPA.CZ</a:t>
            </a:r>
            <a:endParaRPr b="0" lang="en-US" sz="900" spc="-1" strike="noStrike">
              <a:solidFill>
                <a:srgbClr val="3c3c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9" descr="prezentaceOPPa_s1"/>
          <p:cNvPicPr/>
          <p:nvPr/>
        </p:nvPicPr>
        <p:blipFill>
          <a:blip r:embed="rId2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615600" y="1600200"/>
            <a:ext cx="8140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spcBef>
                <a:spcPts val="60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8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  <a:p>
            <a:pPr lvl="1" marL="714240" indent="-268200">
              <a:spcBef>
                <a:spcPts val="601"/>
              </a:spcBef>
              <a:buClr>
                <a:srgbClr val="3c3c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8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  <a:p>
            <a:pPr lvl="2" marL="1076400" indent="-182520">
              <a:spcBef>
                <a:spcPts val="601"/>
              </a:spcBef>
              <a:buClr>
                <a:srgbClr val="3c3c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8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  <a:p>
            <a:pPr lvl="3" marL="1523880" indent="-268200">
              <a:spcBef>
                <a:spcPts val="601"/>
              </a:spcBef>
              <a:buClr>
                <a:srgbClr val="3c3c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8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  <a:p>
            <a:pPr lvl="4" marL="1886040" indent="-182520">
              <a:spcBef>
                <a:spcPts val="601"/>
              </a:spcBef>
              <a:buClr>
                <a:srgbClr val="3c3c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8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  <a:p>
            <a:pPr lvl="5" marL="1886040" indent="-182520">
              <a:spcBef>
                <a:spcPts val="601"/>
              </a:spcBef>
              <a:buClr>
                <a:srgbClr val="3c3c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8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  <a:p>
            <a:pPr lvl="6" marL="1886040" indent="-182520">
              <a:spcBef>
                <a:spcPts val="601"/>
              </a:spcBef>
              <a:buClr>
                <a:srgbClr val="3c3c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8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7d417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4" descr="prezentaceOPPa_S2"/>
          <p:cNvPicPr/>
          <p:nvPr/>
        </p:nvPicPr>
        <p:blipFill>
          <a:blip r:embed="rId3"/>
          <a:stretch/>
        </p:blipFill>
        <p:spPr>
          <a:xfrm>
            <a:off x="0" y="0"/>
            <a:ext cx="9144000" cy="12859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4"/>
          <p:cNvSpPr/>
          <p:nvPr/>
        </p:nvSpPr>
        <p:spPr>
          <a:xfrm>
            <a:off x="6838920" y="6361560"/>
            <a:ext cx="1295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d42e12"/>
                </a:solidFill>
                <a:latin typeface="Arial"/>
              </a:rPr>
              <a:t>WWW.OPPA.CZ</a:t>
            </a:r>
            <a:endParaRPr b="0" lang="en-US" sz="900" spc="-1" strike="noStrike">
              <a:solidFill>
                <a:srgbClr val="3c3c8c"/>
              </a:solidFill>
              <a:latin typeface="Arial"/>
            </a:endParaRPr>
          </a:p>
        </p:txBody>
      </p:sp>
      <p:pic>
        <p:nvPicPr>
          <p:cNvPr id="82" name="Picture 2" descr="D:\atelier_zidlicky\S4U\sablony_dokumentu\ppt_vyroba\logo_ppt.jpg"/>
          <p:cNvPicPr/>
          <p:nvPr/>
        </p:nvPicPr>
        <p:blipFill>
          <a:blip r:embed="rId4"/>
          <a:stretch/>
        </p:blipFill>
        <p:spPr>
          <a:xfrm>
            <a:off x="2627280" y="1413000"/>
            <a:ext cx="3240000" cy="6728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615600" y="1600200"/>
            <a:ext cx="8140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spcBef>
                <a:spcPts val="60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8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  <a:p>
            <a:pPr lvl="1" marL="714240" indent="-268200">
              <a:spcBef>
                <a:spcPts val="601"/>
              </a:spcBef>
              <a:buClr>
                <a:srgbClr val="3c3c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8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  <a:p>
            <a:pPr lvl="2" marL="1076400" indent="-182520">
              <a:spcBef>
                <a:spcPts val="601"/>
              </a:spcBef>
              <a:buClr>
                <a:srgbClr val="3c3c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8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  <a:p>
            <a:pPr lvl="3" marL="1523880" indent="-268200">
              <a:spcBef>
                <a:spcPts val="601"/>
              </a:spcBef>
              <a:buClr>
                <a:srgbClr val="3c3c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8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  <a:p>
            <a:pPr lvl="4" marL="1886040" indent="-182520">
              <a:spcBef>
                <a:spcPts val="601"/>
              </a:spcBef>
              <a:buClr>
                <a:srgbClr val="3c3c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8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  <a:p>
            <a:pPr lvl="5" marL="1886040" indent="-182520">
              <a:spcBef>
                <a:spcPts val="601"/>
              </a:spcBef>
              <a:buClr>
                <a:srgbClr val="3c3c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8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  <a:p>
            <a:pPr lvl="6" marL="1886040" indent="-182520">
              <a:spcBef>
                <a:spcPts val="601"/>
              </a:spcBef>
              <a:buClr>
                <a:srgbClr val="3c3c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8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7d417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34" descr="prezentaceOPPa_S2"/>
          <p:cNvPicPr/>
          <p:nvPr/>
        </p:nvPicPr>
        <p:blipFill>
          <a:blip r:embed="rId2"/>
          <a:stretch/>
        </p:blipFill>
        <p:spPr>
          <a:xfrm>
            <a:off x="0" y="0"/>
            <a:ext cx="9144000" cy="12859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14"/>
          <p:cNvSpPr/>
          <p:nvPr/>
        </p:nvSpPr>
        <p:spPr>
          <a:xfrm>
            <a:off x="6838920" y="6361560"/>
            <a:ext cx="1295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d42e12"/>
                </a:solidFill>
                <a:latin typeface="Arial"/>
              </a:rPr>
              <a:t>WWW.OPPA.CZ</a:t>
            </a:r>
            <a:endParaRPr b="0" lang="en-US" sz="900" spc="-1" strike="noStrike">
              <a:solidFill>
                <a:srgbClr val="3c3c8c"/>
              </a:solidFill>
              <a:latin typeface="Arial"/>
            </a:endParaRPr>
          </a:p>
        </p:txBody>
      </p:sp>
      <p:pic>
        <p:nvPicPr>
          <p:cNvPr id="123" name="Picture 2" descr="D:\atelier_zidlicky\S4U\sablony_dokumentu\ppt_vyroba\zahlavi.jpg"/>
          <p:cNvPicPr/>
          <p:nvPr/>
        </p:nvPicPr>
        <p:blipFill>
          <a:blip r:embed="rId3"/>
          <a:stretch/>
        </p:blipFill>
        <p:spPr>
          <a:xfrm>
            <a:off x="0" y="0"/>
            <a:ext cx="9180360" cy="771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D:\atelier_zidlicky\S4U\sablony_dokumentu\ppt_vyroba\logo_ppt.jpg"/>
          <p:cNvPicPr/>
          <p:nvPr/>
        </p:nvPicPr>
        <p:blipFill>
          <a:blip r:embed="rId4"/>
          <a:stretch/>
        </p:blipFill>
        <p:spPr>
          <a:xfrm>
            <a:off x="539640" y="236520"/>
            <a:ext cx="1440000" cy="298440"/>
          </a:xfrm>
          <a:prstGeom prst="rect">
            <a:avLst/>
          </a:prstGeom>
          <a:ln w="0">
            <a:noFill/>
          </a:ln>
        </p:spPr>
      </p:pic>
      <p:sp>
        <p:nvSpPr>
          <p:cNvPr id="125" name="Zástupný symbol pro číslo snímku 5"/>
          <p:cNvSpPr/>
          <p:nvPr/>
        </p:nvSpPr>
        <p:spPr>
          <a:xfrm>
            <a:off x="6939000" y="6332040"/>
            <a:ext cx="1626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eb6a0a"/>
                </a:solidFill>
                <a:latin typeface="Arial"/>
                <a:ea typeface="Arial"/>
              </a:rPr>
              <a:t>www.system4u.cz</a:t>
            </a: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615600" y="1600200"/>
            <a:ext cx="8140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spcBef>
                <a:spcPts val="60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8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  <a:p>
            <a:pPr lvl="1" marL="714240" indent="-268200">
              <a:spcBef>
                <a:spcPts val="601"/>
              </a:spcBef>
              <a:buClr>
                <a:srgbClr val="3c3c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8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  <a:p>
            <a:pPr lvl="2" marL="1076400" indent="-182520">
              <a:spcBef>
                <a:spcPts val="601"/>
              </a:spcBef>
              <a:buClr>
                <a:srgbClr val="3c3c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8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  <a:p>
            <a:pPr lvl="3" marL="1523880" indent="-268200">
              <a:spcBef>
                <a:spcPts val="601"/>
              </a:spcBef>
              <a:buClr>
                <a:srgbClr val="3c3c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8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  <a:p>
            <a:pPr lvl="4" marL="1886040" indent="-182520">
              <a:spcBef>
                <a:spcPts val="601"/>
              </a:spcBef>
              <a:buClr>
                <a:srgbClr val="3c3c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8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  <a:p>
            <a:pPr lvl="5" marL="1886040" indent="-182520">
              <a:spcBef>
                <a:spcPts val="601"/>
              </a:spcBef>
              <a:buClr>
                <a:srgbClr val="3c3c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8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  <a:p>
            <a:pPr lvl="6" marL="1886040" indent="-182520">
              <a:spcBef>
                <a:spcPts val="601"/>
              </a:spcBef>
              <a:buClr>
                <a:srgbClr val="3c3c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8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7d417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2"/>
          </p:nvPr>
        </p:nvSpPr>
        <p:spPr>
          <a:xfrm>
            <a:off x="6500520" y="231480"/>
            <a:ext cx="206676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Název prezent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34" descr="prezentaceOPPa_S2"/>
          <p:cNvPicPr/>
          <p:nvPr/>
        </p:nvPicPr>
        <p:blipFill>
          <a:blip r:embed="rId2"/>
          <a:stretch/>
        </p:blipFill>
        <p:spPr>
          <a:xfrm>
            <a:off x="0" y="0"/>
            <a:ext cx="9144000" cy="128592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14"/>
          <p:cNvSpPr/>
          <p:nvPr/>
        </p:nvSpPr>
        <p:spPr>
          <a:xfrm>
            <a:off x="6838920" y="6361560"/>
            <a:ext cx="1295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d42e12"/>
                </a:solidFill>
                <a:latin typeface="Arial"/>
              </a:rPr>
              <a:t>WWW.OPPA.CZ</a:t>
            </a:r>
            <a:endParaRPr b="0" lang="en-US" sz="900" spc="-1" strike="noStrike">
              <a:solidFill>
                <a:srgbClr val="3c3c8c"/>
              </a:solidFill>
              <a:latin typeface="Arial"/>
            </a:endParaRPr>
          </a:p>
        </p:txBody>
      </p:sp>
      <p:pic>
        <p:nvPicPr>
          <p:cNvPr id="167" name="Picture 2" descr="D:\atelier_zidlicky\S4U\sablony_dokumentu\ppt_vyroba\zahlavi.jpg"/>
          <p:cNvPicPr/>
          <p:nvPr/>
        </p:nvPicPr>
        <p:blipFill>
          <a:blip r:embed="rId3"/>
          <a:stretch/>
        </p:blipFill>
        <p:spPr>
          <a:xfrm>
            <a:off x="0" y="0"/>
            <a:ext cx="9180360" cy="7714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D:\atelier_zidlicky\S4U\sablony_dokumentu\ppt_vyroba\logo_ppt.jpg"/>
          <p:cNvPicPr/>
          <p:nvPr/>
        </p:nvPicPr>
        <p:blipFill>
          <a:blip r:embed="rId4"/>
          <a:stretch/>
        </p:blipFill>
        <p:spPr>
          <a:xfrm>
            <a:off x="539640" y="236520"/>
            <a:ext cx="1440000" cy="298440"/>
          </a:xfrm>
          <a:prstGeom prst="rect">
            <a:avLst/>
          </a:prstGeom>
          <a:ln w="0">
            <a:noFill/>
          </a:ln>
        </p:spPr>
      </p:pic>
      <p:sp>
        <p:nvSpPr>
          <p:cNvPr id="169" name="Zástupný symbol pro číslo snímku 5"/>
          <p:cNvSpPr/>
          <p:nvPr/>
        </p:nvSpPr>
        <p:spPr>
          <a:xfrm>
            <a:off x="6939000" y="6332040"/>
            <a:ext cx="1626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eb6a0a"/>
                </a:solidFill>
                <a:latin typeface="Arial"/>
                <a:ea typeface="Arial"/>
              </a:rPr>
              <a:t>www.system4u.cz</a:t>
            </a: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615600" y="1600200"/>
            <a:ext cx="8140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spcBef>
                <a:spcPts val="60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8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  <a:p>
            <a:pPr lvl="1" marL="714240" indent="-268200">
              <a:spcBef>
                <a:spcPts val="601"/>
              </a:spcBef>
              <a:buClr>
                <a:srgbClr val="3c3c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8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  <a:p>
            <a:pPr lvl="2" marL="1076400" indent="-182520">
              <a:spcBef>
                <a:spcPts val="601"/>
              </a:spcBef>
              <a:buClr>
                <a:srgbClr val="3c3c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8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  <a:p>
            <a:pPr lvl="3" marL="1523880" indent="-268200">
              <a:spcBef>
                <a:spcPts val="601"/>
              </a:spcBef>
              <a:buClr>
                <a:srgbClr val="3c3c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8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  <a:p>
            <a:pPr lvl="4" marL="1886040" indent="-182520">
              <a:spcBef>
                <a:spcPts val="601"/>
              </a:spcBef>
              <a:buClr>
                <a:srgbClr val="3c3c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8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  <a:p>
            <a:pPr lvl="5" marL="1886040" indent="-182520">
              <a:spcBef>
                <a:spcPts val="601"/>
              </a:spcBef>
              <a:buClr>
                <a:srgbClr val="3c3c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8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  <a:p>
            <a:pPr lvl="6" marL="1886040" indent="-182520">
              <a:spcBef>
                <a:spcPts val="601"/>
              </a:spcBef>
              <a:buClr>
                <a:srgbClr val="3c3c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8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7d417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3"/>
          </p:nvPr>
        </p:nvSpPr>
        <p:spPr>
          <a:xfrm>
            <a:off x="6500520" y="231480"/>
            <a:ext cx="206676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Název prezent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34" descr="prezentaceOPPa_S2"/>
          <p:cNvPicPr/>
          <p:nvPr/>
        </p:nvPicPr>
        <p:blipFill>
          <a:blip r:embed="rId2"/>
          <a:stretch/>
        </p:blipFill>
        <p:spPr>
          <a:xfrm>
            <a:off x="0" y="0"/>
            <a:ext cx="9144000" cy="128592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14"/>
          <p:cNvSpPr/>
          <p:nvPr/>
        </p:nvSpPr>
        <p:spPr>
          <a:xfrm>
            <a:off x="6838920" y="6361560"/>
            <a:ext cx="1295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d42e12"/>
                </a:solidFill>
                <a:latin typeface="Arial"/>
              </a:rPr>
              <a:t>WWW.OPPA.CZ</a:t>
            </a:r>
            <a:endParaRPr b="0" lang="en-US" sz="900" spc="-1" strike="noStrike">
              <a:solidFill>
                <a:srgbClr val="3c3c8c"/>
              </a:solidFill>
              <a:latin typeface="Arial"/>
            </a:endParaRPr>
          </a:p>
        </p:txBody>
      </p:sp>
      <p:pic>
        <p:nvPicPr>
          <p:cNvPr id="211" name="Picture 2" descr="D:\atelier_zidlicky\S4U\sablony_dokumentu\ppt_vyroba\zahlavi.jpg"/>
          <p:cNvPicPr/>
          <p:nvPr/>
        </p:nvPicPr>
        <p:blipFill>
          <a:blip r:embed="rId3"/>
          <a:stretch/>
        </p:blipFill>
        <p:spPr>
          <a:xfrm>
            <a:off x="0" y="0"/>
            <a:ext cx="9180360" cy="7714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" descr="D:\atelier_zidlicky\S4U\sablony_dokumentu\ppt_vyroba\logo_ppt.jpg"/>
          <p:cNvPicPr/>
          <p:nvPr/>
        </p:nvPicPr>
        <p:blipFill>
          <a:blip r:embed="rId4"/>
          <a:stretch/>
        </p:blipFill>
        <p:spPr>
          <a:xfrm>
            <a:off x="539640" y="236520"/>
            <a:ext cx="1440000" cy="298440"/>
          </a:xfrm>
          <a:prstGeom prst="rect">
            <a:avLst/>
          </a:prstGeom>
          <a:ln w="0">
            <a:noFill/>
          </a:ln>
        </p:spPr>
      </p:pic>
      <p:sp>
        <p:nvSpPr>
          <p:cNvPr id="213" name="Zástupný symbol pro číslo snímku 5"/>
          <p:cNvSpPr/>
          <p:nvPr/>
        </p:nvSpPr>
        <p:spPr>
          <a:xfrm>
            <a:off x="6939000" y="6332040"/>
            <a:ext cx="1626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eb6a0a"/>
                </a:solidFill>
                <a:latin typeface="Arial"/>
                <a:ea typeface="Arial"/>
              </a:rPr>
              <a:t>www.system4u.cz</a:t>
            </a: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body"/>
          </p:nvPr>
        </p:nvSpPr>
        <p:spPr>
          <a:xfrm>
            <a:off x="615600" y="1600200"/>
            <a:ext cx="8140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spcBef>
                <a:spcPts val="60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8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  <a:p>
            <a:pPr lvl="1" marL="714240" indent="-268200">
              <a:spcBef>
                <a:spcPts val="601"/>
              </a:spcBef>
              <a:buClr>
                <a:srgbClr val="3c3c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8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  <a:p>
            <a:pPr lvl="2" marL="1076400" indent="-182520">
              <a:spcBef>
                <a:spcPts val="601"/>
              </a:spcBef>
              <a:buClr>
                <a:srgbClr val="3c3c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8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  <a:p>
            <a:pPr lvl="3" marL="1523880" indent="-268200">
              <a:spcBef>
                <a:spcPts val="601"/>
              </a:spcBef>
              <a:buClr>
                <a:srgbClr val="3c3c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8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  <a:p>
            <a:pPr lvl="4" marL="1886040" indent="-182520">
              <a:spcBef>
                <a:spcPts val="601"/>
              </a:spcBef>
              <a:buClr>
                <a:srgbClr val="3c3c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8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  <a:p>
            <a:pPr lvl="5" marL="1886040" indent="-182520">
              <a:spcBef>
                <a:spcPts val="601"/>
              </a:spcBef>
              <a:buClr>
                <a:srgbClr val="3c3c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8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  <a:p>
            <a:pPr lvl="6" marL="1886040" indent="-182520">
              <a:spcBef>
                <a:spcPts val="601"/>
              </a:spcBef>
              <a:buClr>
                <a:srgbClr val="3c3c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8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7d417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sldNum" idx="4"/>
          </p:nvPr>
        </p:nvSpPr>
        <p:spPr>
          <a:xfrm>
            <a:off x="6500520" y="231480"/>
            <a:ext cx="206676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Název prezent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Obrázek 1" descr=""/>
          <p:cNvPicPr/>
          <p:nvPr/>
        </p:nvPicPr>
        <p:blipFill>
          <a:blip r:embed="rId1"/>
          <a:stretch/>
        </p:blipFill>
        <p:spPr>
          <a:xfrm>
            <a:off x="6724800" y="4956120"/>
            <a:ext cx="2279520" cy="103680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39680" y="2482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Citrix XenMobile</a:t>
            </a:r>
            <a:endParaRPr b="1" lang="en-US" sz="28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1039680" y="5591160"/>
            <a:ext cx="640080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Edward Plch</a:t>
            </a:r>
            <a:endParaRPr b="0" lang="en-US" sz="1400" spc="-1" strike="noStrike">
              <a:solidFill>
                <a:srgbClr val="3c3c8c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věten 2014</a:t>
            </a:r>
            <a:endParaRPr b="0" lang="en-US" sz="1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263" name="Rectangle 4"/>
          <p:cNvSpPr/>
          <p:nvPr/>
        </p:nvSpPr>
        <p:spPr>
          <a:xfrm>
            <a:off x="1038240" y="1236600"/>
            <a:ext cx="64008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66760" indent="-266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EVROPSKÝ SOCIÁLNÍ FOND</a:t>
            </a:r>
            <a:endParaRPr b="0" lang="en-US" sz="1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946080" y="3952800"/>
            <a:ext cx="495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d42e12"/>
                </a:solidFill>
                <a:latin typeface="Arial"/>
              </a:rPr>
              <a:t>PRAHA </a:t>
            </a:r>
            <a:r>
              <a:rPr b="1" lang="en-US" sz="1800" spc="-1" strike="noStrike">
                <a:solidFill>
                  <a:srgbClr val="d42e12"/>
                </a:solidFill>
                <a:latin typeface="Arial"/>
              </a:rPr>
              <a:t>&amp; EU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ESTUJEME DO VA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ŠÍ BUDOUCNOSTI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39680" y="2482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Ukázka mobilního zařízení, konzole XDM</a:t>
            </a:r>
            <a:endParaRPr b="1" lang="en-US" sz="2800" spc="-1" strike="noStrike">
              <a:solidFill>
                <a:srgbClr val="f7d417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39680" y="2482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Kompletní nasazení XenMobile – </a:t>
            </a:r>
            <a:br>
              <a:rPr sz="2800"/>
            </a:b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Enterprise edition</a:t>
            </a:r>
            <a:endParaRPr b="1" lang="en-US" sz="2800" spc="-1" strike="noStrike">
              <a:solidFill>
                <a:srgbClr val="f7d417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7d417"/>
                </a:solidFill>
                <a:latin typeface="Arial"/>
              </a:rPr>
              <a:t>Kompletní nasazení – Enterprise edition</a:t>
            </a: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15600" y="1600200"/>
            <a:ext cx="8140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c3c8c"/>
                </a:solidFill>
                <a:latin typeface="Arial"/>
              </a:rPr>
              <a:t>Funkcionalita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  <a:p>
            <a:pPr lvl="1" marL="714240" indent="-26820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c3c8c"/>
                </a:solidFill>
                <a:latin typeface="Arial"/>
              </a:rPr>
              <a:t>Funkcionalita MDM edition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  <a:p>
            <a:pPr lvl="1" marL="714240" indent="-26820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c3c8c"/>
                </a:solidFill>
                <a:latin typeface="Arial"/>
              </a:rPr>
              <a:t>Netscaler Gateway jako centrální vstupní brána mobilních zařízení do firmy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  <a:p>
            <a:pPr lvl="1" marL="714240" indent="-26820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c3c8c"/>
                </a:solidFill>
                <a:latin typeface="Arial"/>
              </a:rPr>
              <a:t>Zabezpečený email WorxMail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  <a:p>
            <a:pPr lvl="1" marL="714240" indent="-26820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c3c8c"/>
                </a:solidFill>
                <a:latin typeface="Arial"/>
              </a:rPr>
              <a:t>Zabezpečený browser WorxWeb pro intranet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  <a:p>
            <a:pPr lvl="1" marL="714240" indent="-26820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c3c8c"/>
                </a:solidFill>
                <a:latin typeface="Arial"/>
              </a:rPr>
              <a:t>Přístup na XenApp/XenDesktop aplikace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  <a:p>
            <a:pPr lvl="1" marL="714240" indent="-26820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c3c8c"/>
                </a:solidFill>
                <a:latin typeface="Arial"/>
              </a:rPr>
              <a:t>Zabezpečení vlastních aplikací a aplikací třetích stran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  <a:p>
            <a:pPr lvl="1" marL="714240" indent="-26820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c3c8c"/>
                </a:solidFill>
                <a:latin typeface="Arial"/>
              </a:rPr>
              <a:t>Možnost integrace se produktem Netscaler – firewall, load balancing pro HA, SSL offload apod.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  <a:p>
            <a:pPr lvl="1" marL="714240" indent="-268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294" name="Zástupný symbol pro číslo snímku 3"/>
          <p:cNvSpPr/>
          <p:nvPr/>
        </p:nvSpPr>
        <p:spPr>
          <a:xfrm>
            <a:off x="8167680" y="6191280"/>
            <a:ext cx="58896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902C7-5E7C-42BF-86E8-FB0D47F94E00}" type="slidenum">
              <a:rPr b="0" lang="cs-CZ" sz="1400" spc="-1" strike="noStrike">
                <a:solidFill>
                  <a:srgbClr val="3c3c8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c3c8c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7d417"/>
                </a:solidFill>
                <a:latin typeface="Arial"/>
              </a:rPr>
              <a:t>Kompletní nasazení – Enterprise edition</a:t>
            </a: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615600" y="1600200"/>
            <a:ext cx="8140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c3c8c"/>
                </a:solidFill>
                <a:latin typeface="Arial"/>
              </a:rPr>
              <a:t>Rozsah nasazení – správa zařízení, mobilní aplikace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  <a:p>
            <a:pPr lvl="1" marL="714240" indent="-26820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c3c8c"/>
                </a:solidFill>
                <a:latin typeface="Arial"/>
              </a:rPr>
              <a:t>1x XDM server v DMZ (Windows)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  <a:p>
            <a:pPr lvl="1" marL="714240" indent="-26820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c3c8c"/>
                </a:solidFill>
                <a:latin typeface="Arial"/>
              </a:rPr>
              <a:t>1x SQL server v LAN (volitelně)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  <a:p>
            <a:pPr lvl="1" marL="714240" indent="-26820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c3c8c"/>
                </a:solidFill>
                <a:latin typeface="Arial"/>
              </a:rPr>
              <a:t>1x Netscaler gateway v DMZ (sw nebo hw appliance)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  <a:p>
            <a:pPr lvl="1" marL="714240" indent="-26820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c3c8c"/>
                </a:solidFill>
                <a:latin typeface="Arial"/>
              </a:rPr>
              <a:t>1x AppController v LAN (Linux)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  <a:p>
            <a:pPr lvl="1" marL="714240" indent="-268200">
              <a:spcBef>
                <a:spcPts val="34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c3c8c"/>
                </a:solidFill>
                <a:latin typeface="Arial"/>
              </a:rPr>
              <a:t>Rozšíření 1 – aplikace XenApp/XenDesktop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  <a:p>
            <a:pPr lvl="1" marL="714240" indent="-26820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c3c8c"/>
                </a:solidFill>
                <a:latin typeface="Arial"/>
              </a:rPr>
              <a:t>1x StoreFront Server (Windows)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  <a:p>
            <a:pPr lvl="1" marL="714240" indent="-26820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c3c8c"/>
                </a:solidFill>
                <a:latin typeface="Arial"/>
              </a:rPr>
              <a:t>Infrastruktura pro XenApp/XenDesktop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297" name="Zástupný symbol pro číslo snímku 3"/>
          <p:cNvSpPr/>
          <p:nvPr/>
        </p:nvSpPr>
        <p:spPr>
          <a:xfrm>
            <a:off x="8167680" y="6191280"/>
            <a:ext cx="58896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9A768-1752-4615-93A8-2BACD0DCE62A}" type="slidenum">
              <a:rPr b="0" lang="cs-CZ" sz="1400" spc="-1" strike="noStrike">
                <a:solidFill>
                  <a:srgbClr val="3c3c8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c3c8c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7d417"/>
                </a:solidFill>
                <a:latin typeface="Arial"/>
              </a:rPr>
              <a:t>Kompletní nasazení – Enterprise edition</a:t>
            </a: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615600" y="1600200"/>
            <a:ext cx="8140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c3c8c"/>
                </a:solidFill>
                <a:latin typeface="Arial"/>
              </a:rPr>
              <a:t>Rozšíření 2 – ShareFile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  <a:p>
            <a:pPr lvl="1" marL="714240" indent="-26820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c3c8c"/>
                </a:solidFill>
                <a:latin typeface="Arial"/>
              </a:rPr>
              <a:t>1x Storage Zone Controller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  <a:p>
            <a:pPr lvl="1" marL="714240" indent="-26820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c3c8c"/>
                </a:solidFill>
                <a:latin typeface="Arial"/>
              </a:rPr>
              <a:t>Infrastruktura StoreFront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  <a:p>
            <a:pPr lvl="1" marL="714240" indent="-268200">
              <a:spcBef>
                <a:spcPts val="34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c3c8c"/>
                </a:solidFill>
                <a:latin typeface="Arial"/>
              </a:rPr>
              <a:t>Rozšíření 3 – Netscaler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  <a:p>
            <a:pPr lvl="1" marL="714240" indent="-26820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c3c8c"/>
                </a:solidFill>
                <a:latin typeface="Arial"/>
              </a:rPr>
              <a:t>Integrace s produktem Netscaler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  <a:p>
            <a:pPr lvl="1" marL="714240" indent="-26820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c3c8c"/>
                </a:solidFill>
                <a:latin typeface="Arial"/>
              </a:rPr>
              <a:t>Podporuje Secure Email Gateway – Netscaler connector (XNC)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  <a:p>
            <a:pPr lvl="1" marL="714240" indent="-26820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c3c8c"/>
                </a:solidFill>
                <a:latin typeface="Arial"/>
              </a:rPr>
              <a:t>Jednotný firewall pro mobilní zařízení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  <a:p>
            <a:pPr lvl="1" marL="714240" indent="-26820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c3c8c"/>
                </a:solidFill>
                <a:latin typeface="Arial"/>
              </a:rPr>
              <a:t>Load balancing pro High availability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  <a:p>
            <a:pPr lvl="1" marL="714240" indent="-26820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c3c8c"/>
                </a:solidFill>
                <a:latin typeface="Arial"/>
              </a:rPr>
              <a:t>SSL offload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  <a:p>
            <a:pPr lvl="1" marL="714240" indent="-268200">
              <a:spcBef>
                <a:spcPts val="451"/>
              </a:spcBef>
              <a:buClr>
                <a:srgbClr val="3c3c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300" name="Zástupný symbol pro číslo snímku 3"/>
          <p:cNvSpPr/>
          <p:nvPr/>
        </p:nvSpPr>
        <p:spPr>
          <a:xfrm>
            <a:off x="8167680" y="6191280"/>
            <a:ext cx="58896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BC400-91E8-4F8E-95A0-1B5CEC1C98B8}" type="slidenum">
              <a:rPr b="0" lang="cs-CZ" sz="1400" spc="-1" strike="noStrike">
                <a:solidFill>
                  <a:srgbClr val="3c3c8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c3c8c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7d417"/>
                </a:solidFill>
                <a:latin typeface="Arial"/>
              </a:rPr>
              <a:t>Kompletní nasazení – Enterprise edition</a:t>
            </a: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615600" y="4817880"/>
            <a:ext cx="8140680" cy="13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c3c8c"/>
                </a:solidFill>
                <a:latin typeface="Arial"/>
              </a:rPr>
              <a:t>XDM – XenMobile Device Manager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c3c8c"/>
                </a:solidFill>
                <a:latin typeface="Arial"/>
              </a:rPr>
              <a:t>XNC – Netscaler Connector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c3c8c"/>
                </a:solidFill>
                <a:latin typeface="Arial"/>
              </a:rPr>
              <a:t>XMA – XenMobile AppController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c3c8c"/>
                </a:solidFill>
                <a:latin typeface="Arial"/>
              </a:rPr>
              <a:t>SZC – StorageZone Controller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</p:txBody>
      </p:sp>
      <p:pic>
        <p:nvPicPr>
          <p:cNvPr id="303" name="Picture 1" descr=""/>
          <p:cNvPicPr/>
          <p:nvPr/>
        </p:nvPicPr>
        <p:blipFill>
          <a:blip r:embed="rId1"/>
          <a:stretch/>
        </p:blipFill>
        <p:spPr>
          <a:xfrm>
            <a:off x="971640" y="1441440"/>
            <a:ext cx="7020000" cy="3181320"/>
          </a:xfrm>
          <a:prstGeom prst="rect">
            <a:avLst/>
          </a:prstGeom>
          <a:ln w="0">
            <a:noFill/>
          </a:ln>
        </p:spPr>
      </p:pic>
      <p:sp>
        <p:nvSpPr>
          <p:cNvPr id="304" name="Zástupný symbol pro číslo snímku 3"/>
          <p:cNvSpPr/>
          <p:nvPr/>
        </p:nvSpPr>
        <p:spPr>
          <a:xfrm>
            <a:off x="8167680" y="6191280"/>
            <a:ext cx="58896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EEC5B-70F9-42E3-824C-6DFB1341A769}" type="slidenum">
              <a:rPr b="0" lang="cs-CZ" sz="1400" spc="-1" strike="noStrike">
                <a:solidFill>
                  <a:srgbClr val="3c3c8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c3c8c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39680" y="2482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Ukázka mobilního zařízení, publikace aplikací XenApp/XenDesktop, WorxMail, WorxWeb</a:t>
            </a:r>
            <a:endParaRPr b="1" lang="en-US" sz="2800" spc="-1" strike="noStrike">
              <a:solidFill>
                <a:srgbClr val="f7d417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615600" y="1600200"/>
            <a:ext cx="8140680" cy="28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8c"/>
              </a:solidFill>
              <a:latin typeface="Arial"/>
            </a:endParaRPr>
          </a:p>
          <a:p>
            <a:pPr marL="2667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DĚKUJI ZA POZORNOST</a:t>
            </a:r>
            <a:endParaRPr b="0" lang="en-US" sz="28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1927080" y="5591160"/>
            <a:ext cx="561348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Edward Plch</a:t>
            </a:r>
            <a:endParaRPr b="0" lang="en-US" sz="1400" spc="-1" strike="noStrike">
              <a:solidFill>
                <a:srgbClr val="3c3c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věten 2014</a:t>
            </a:r>
            <a:endParaRPr b="0" lang="en-US" sz="1400" spc="-1" strike="noStrike">
              <a:solidFill>
                <a:srgbClr val="3c3c8c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7d417"/>
                </a:solidFill>
                <a:latin typeface="Arial"/>
                <a:ea typeface="Arial"/>
              </a:rPr>
              <a:t>Agenda</a:t>
            </a:r>
            <a:endParaRPr b="1" lang="en-US" sz="24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615600" y="1600200"/>
            <a:ext cx="497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c3c8c"/>
                </a:solidFill>
                <a:latin typeface="Arial"/>
              </a:rPr>
              <a:t>Edice XenMobile, možnosti nasazení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c3c8c"/>
                </a:solidFill>
                <a:latin typeface="Arial"/>
              </a:rPr>
              <a:t>Základní nasazení XenMobile – MDM edition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c3c8c"/>
                </a:solidFill>
                <a:latin typeface="Arial"/>
              </a:rPr>
              <a:t>Ukázka mobilního zařízení, konzole XDM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c3c8c"/>
                </a:solidFill>
                <a:latin typeface="Arial"/>
              </a:rPr>
              <a:t>Kompletní nasazení XenMobile – Enterprise edition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c3c8c"/>
                </a:solidFill>
                <a:latin typeface="Arial"/>
              </a:rPr>
              <a:t>Ukázka mobilního zařízení, publikace aplikací XenApp/XenDesktop, WorxMail, WorxWeb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</p:txBody>
      </p:sp>
      <p:pic>
        <p:nvPicPr>
          <p:cNvPr id="267" name="Picture 2" descr=""/>
          <p:cNvPicPr/>
          <p:nvPr/>
        </p:nvPicPr>
        <p:blipFill>
          <a:blip r:embed="rId1"/>
          <a:stretch/>
        </p:blipFill>
        <p:spPr>
          <a:xfrm>
            <a:off x="5594400" y="1670040"/>
            <a:ext cx="3349440" cy="4065480"/>
          </a:xfrm>
          <a:prstGeom prst="rect">
            <a:avLst/>
          </a:prstGeom>
          <a:ln w="0">
            <a:noFill/>
          </a:ln>
        </p:spPr>
      </p:pic>
      <p:sp>
        <p:nvSpPr>
          <p:cNvPr id="268" name="Zástupný symbol pro číslo snímku 3"/>
          <p:cNvSpPr/>
          <p:nvPr/>
        </p:nvSpPr>
        <p:spPr>
          <a:xfrm>
            <a:off x="8167680" y="6191280"/>
            <a:ext cx="58896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47981-34E4-452F-8A06-4D56BCF6A17D}" type="slidenum">
              <a:rPr b="0" lang="cs-CZ" sz="1400" spc="-1" strike="noStrike">
                <a:solidFill>
                  <a:srgbClr val="3c3c8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c3c8c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39680" y="2482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Edice XenMobile, možnosti nasazení</a:t>
            </a:r>
            <a:endParaRPr b="1" lang="en-US" sz="2800" spc="-1" strike="noStrike">
              <a:solidFill>
                <a:srgbClr val="f7d417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7d417"/>
                </a:solidFill>
                <a:latin typeface="Arial"/>
              </a:rPr>
              <a:t>Funkcionalita a možnosti Citrix XenMobile</a:t>
            </a: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615600" y="1600200"/>
            <a:ext cx="8140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c3c8c"/>
                </a:solidFill>
                <a:latin typeface="Arial"/>
              </a:rPr>
              <a:t>Mobile Device Management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  <a:p>
            <a:pPr lvl="1" marL="714240" indent="-26820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c3c8c"/>
                </a:solidFill>
                <a:latin typeface="Arial"/>
              </a:rPr>
              <a:t>XenMobile Device Manager – XDM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  <a:p>
            <a:pPr lvl="1" marL="714240" indent="-268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c3c8c"/>
                </a:solidFill>
                <a:latin typeface="Arial"/>
              </a:rPr>
              <a:t>Bezpečný přístup do firemní sítě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  <a:p>
            <a:pPr lvl="1" marL="714240" indent="-26820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c3c8c"/>
                </a:solidFill>
                <a:latin typeface="Arial"/>
              </a:rPr>
              <a:t>Netscaler Gateway a Netscaler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  <a:p>
            <a:pPr lvl="1" marL="714240" indent="-268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c3c8c"/>
                </a:solidFill>
                <a:latin typeface="Arial"/>
              </a:rPr>
              <a:t>Mobile Application Management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  <a:p>
            <a:pPr lvl="1" marL="714240" indent="-26820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c3c8c"/>
                </a:solidFill>
                <a:latin typeface="Arial"/>
              </a:rPr>
              <a:t>XenApp/XenDesktop integration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  <a:p>
            <a:pPr lvl="1" marL="714240" indent="-26820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c3c8c"/>
                </a:solidFill>
                <a:latin typeface="Arial"/>
              </a:rPr>
              <a:t>Application wrapping – zabezpečení mobilních aplikací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  <a:p>
            <a:pPr lvl="1" marL="714240" indent="-268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c3c8c"/>
                </a:solidFill>
                <a:latin typeface="Arial"/>
              </a:rPr>
              <a:t>Mobile Content Management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  <a:p>
            <a:pPr lvl="1" marL="714240" indent="-26820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c3c8c"/>
                </a:solidFill>
                <a:latin typeface="Arial"/>
              </a:rPr>
              <a:t>Secured email, secured browser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  <a:p>
            <a:pPr lvl="1" marL="714240" indent="-26820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c3c8c"/>
                </a:solidFill>
                <a:latin typeface="Arial"/>
              </a:rPr>
              <a:t>File sharing – ShareFile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272" name="Zástupný symbol pro číslo snímku 3"/>
          <p:cNvSpPr/>
          <p:nvPr/>
        </p:nvSpPr>
        <p:spPr>
          <a:xfrm>
            <a:off x="8167680" y="6191280"/>
            <a:ext cx="58896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EDA19-D851-49B9-89EF-285F9E4F8579}" type="slidenum">
              <a:rPr b="0" lang="cs-CZ" sz="1400" spc="-1" strike="noStrike">
                <a:solidFill>
                  <a:srgbClr val="3c3c8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c3c8c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7d417"/>
                </a:solidFill>
                <a:latin typeface="Arial"/>
              </a:rPr>
              <a:t>Edice Citrix XenMobile</a:t>
            </a: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15600" y="1600200"/>
            <a:ext cx="8140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c3c8c"/>
                </a:solidFill>
                <a:latin typeface="Arial"/>
              </a:rPr>
              <a:t>MDM Edition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  <a:p>
            <a:pPr lvl="1" marL="714240" indent="-26820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c3c8c"/>
                </a:solidFill>
                <a:latin typeface="Arial"/>
              </a:rPr>
              <a:t>Správa mobilních zařízení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  <a:p>
            <a:pPr lvl="1" marL="714240" indent="-26820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c3c8c"/>
                </a:solidFill>
                <a:latin typeface="Arial"/>
              </a:rPr>
              <a:t>Řízení přístupu mobilních zařízení k ActiveSync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  <a:p>
            <a:pPr lvl="1" marL="714240" indent="-268200">
              <a:spcBef>
                <a:spcPts val="34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c3c8c"/>
                </a:solidFill>
                <a:latin typeface="Arial"/>
              </a:rPr>
              <a:t>App Edition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  <a:p>
            <a:pPr lvl="1" marL="714240" indent="-26820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c3c8c"/>
                </a:solidFill>
                <a:latin typeface="Arial"/>
              </a:rPr>
              <a:t>Mobilní přístup k aplikacím XenApp, XenDesktop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  <a:p>
            <a:pPr lvl="1" marL="714240" indent="-26820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c3c8c"/>
                </a:solidFill>
                <a:latin typeface="Arial"/>
              </a:rPr>
              <a:t>Předpokládá se integrace s MDM řešením třetí strany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34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c3c8c"/>
                </a:solidFill>
                <a:latin typeface="Arial"/>
              </a:rPr>
              <a:t>Enterprise Edition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  <a:p>
            <a:pPr lvl="1" marL="714240" indent="-26820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c3c8c"/>
                </a:solidFill>
                <a:latin typeface="Arial"/>
              </a:rPr>
              <a:t>Kompletní funkcionalita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275" name="Zástupný symbol pro číslo snímku 3"/>
          <p:cNvSpPr/>
          <p:nvPr/>
        </p:nvSpPr>
        <p:spPr>
          <a:xfrm>
            <a:off x="8167680" y="6191280"/>
            <a:ext cx="58896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01E3C-E3B0-46E0-9066-0F2E00E78166}" type="slidenum">
              <a:rPr b="0" lang="cs-CZ" sz="1400" spc="-1" strike="noStrike">
                <a:solidFill>
                  <a:srgbClr val="3c3c8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c3c8c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7d417"/>
                </a:solidFill>
                <a:latin typeface="Arial"/>
              </a:rPr>
              <a:t>Mobilní aplikace Citrix XenMobile</a:t>
            </a: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615600" y="1600200"/>
            <a:ext cx="8140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c3c8c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3c3c8c"/>
                </a:solidFill>
                <a:latin typeface="Arial"/>
              </a:rPr>
              <a:t>WORX HOME – bezpečné sdílení dat</a:t>
            </a: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c3c8c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3c3c8c"/>
                </a:solidFill>
                <a:latin typeface="Arial"/>
              </a:rPr>
              <a:t>WORX MAIL – e-mail, kalendář, kontakty</a:t>
            </a: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c3c8c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3c3c8c"/>
                </a:solidFill>
                <a:latin typeface="Arial"/>
              </a:rPr>
              <a:t>WORX WEB – bezpečný mobilní prohlížeč</a:t>
            </a: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c3c8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c3c8c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3c3c8c"/>
                </a:solidFill>
                <a:latin typeface="Arial"/>
              </a:rPr>
              <a:t>SHAREFILE - bezpečné sdílení dat</a:t>
            </a: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pic>
        <p:nvPicPr>
          <p:cNvPr id="278" name="Obrázek 4" descr=""/>
          <p:cNvPicPr/>
          <p:nvPr/>
        </p:nvPicPr>
        <p:blipFill>
          <a:blip r:embed="rId1"/>
          <a:stretch/>
        </p:blipFill>
        <p:spPr>
          <a:xfrm>
            <a:off x="353880" y="2874960"/>
            <a:ext cx="1059120" cy="1058760"/>
          </a:xfrm>
          <a:prstGeom prst="rect">
            <a:avLst/>
          </a:prstGeom>
          <a:ln w="0">
            <a:noFill/>
          </a:ln>
        </p:spPr>
      </p:pic>
      <p:pic>
        <p:nvPicPr>
          <p:cNvPr id="279" name="Obrázek 5" descr=""/>
          <p:cNvPicPr/>
          <p:nvPr/>
        </p:nvPicPr>
        <p:blipFill>
          <a:blip r:embed="rId2"/>
          <a:stretch/>
        </p:blipFill>
        <p:spPr>
          <a:xfrm>
            <a:off x="414360" y="3933720"/>
            <a:ext cx="1003320" cy="1003320"/>
          </a:xfrm>
          <a:prstGeom prst="rect">
            <a:avLst/>
          </a:prstGeom>
          <a:ln w="0">
            <a:noFill/>
          </a:ln>
        </p:spPr>
      </p:pic>
      <p:pic>
        <p:nvPicPr>
          <p:cNvPr id="280" name="Obrázek 6" descr=""/>
          <p:cNvPicPr/>
          <p:nvPr/>
        </p:nvPicPr>
        <p:blipFill>
          <a:blip r:embed="rId3"/>
          <a:stretch/>
        </p:blipFill>
        <p:spPr>
          <a:xfrm>
            <a:off x="372960" y="1890720"/>
            <a:ext cx="1059120" cy="1058760"/>
          </a:xfrm>
          <a:prstGeom prst="rect">
            <a:avLst/>
          </a:prstGeom>
          <a:ln w="0">
            <a:noFill/>
          </a:ln>
        </p:spPr>
      </p:pic>
      <p:pic>
        <p:nvPicPr>
          <p:cNvPr id="281" name="Obrázek 11" descr=""/>
          <p:cNvPicPr/>
          <p:nvPr/>
        </p:nvPicPr>
        <p:blipFill>
          <a:blip r:embed="rId4"/>
          <a:stretch/>
        </p:blipFill>
        <p:spPr>
          <a:xfrm>
            <a:off x="620640" y="5084640"/>
            <a:ext cx="619200" cy="695520"/>
          </a:xfrm>
          <a:prstGeom prst="rect">
            <a:avLst/>
          </a:prstGeom>
          <a:ln w="0">
            <a:noFill/>
          </a:ln>
        </p:spPr>
      </p:pic>
      <p:sp>
        <p:nvSpPr>
          <p:cNvPr id="282" name="Zástupný symbol pro číslo snímku 3"/>
          <p:cNvSpPr/>
          <p:nvPr/>
        </p:nvSpPr>
        <p:spPr>
          <a:xfrm>
            <a:off x="8167680" y="6191280"/>
            <a:ext cx="58896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60B43-10C7-4CAB-8E4F-BE4B2C435DE2}" type="slidenum">
              <a:rPr b="0" lang="cs-CZ" sz="1400" spc="-1" strike="noStrike">
                <a:solidFill>
                  <a:srgbClr val="3c3c8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c3c8c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39680" y="2482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Základní nasazení XenMobile – MDM edition</a:t>
            </a:r>
            <a:endParaRPr b="1" lang="en-US" sz="2800" spc="-1" strike="noStrike">
              <a:solidFill>
                <a:srgbClr val="f7d417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7d417"/>
                </a:solidFill>
                <a:latin typeface="Arial"/>
              </a:rPr>
              <a:t>Základní nasazení XenMobile – MDM edition</a:t>
            </a: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15600" y="1600200"/>
            <a:ext cx="8140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c3c8c"/>
                </a:solidFill>
                <a:latin typeface="Arial"/>
              </a:rPr>
              <a:t>Funkcionalita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  <a:p>
            <a:pPr lvl="1" marL="714240" indent="-26820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c3c8c"/>
                </a:solidFill>
                <a:latin typeface="Arial"/>
              </a:rPr>
              <a:t>Kompletní správa mobilních zařízení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  <a:p>
            <a:pPr lvl="1" marL="714240" indent="-26820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c3c8c"/>
                </a:solidFill>
                <a:latin typeface="Arial"/>
              </a:rPr>
              <a:t>Řízení přístupu mobilních zařízení k ActiveSync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  <a:p>
            <a:pPr lvl="1" marL="714240" indent="-26820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c3c8c"/>
                </a:solidFill>
                <a:latin typeface="Arial"/>
              </a:rPr>
              <a:t>Firemní appstore pro mobilní aplikace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  <a:p>
            <a:pPr lvl="1" marL="714240" indent="-268200">
              <a:spcBef>
                <a:spcPts val="34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c3c8c"/>
                </a:solidFill>
                <a:latin typeface="Arial"/>
              </a:rPr>
              <a:t>Rozsah nasazení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  <a:p>
            <a:pPr lvl="1" marL="714240" indent="-26820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c3c8c"/>
                </a:solidFill>
                <a:latin typeface="Arial"/>
              </a:rPr>
              <a:t>1x XDM server v DMZ (Windows)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  <a:p>
            <a:pPr lvl="1" marL="714240" indent="-26820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c3c8c"/>
                </a:solidFill>
                <a:latin typeface="Arial"/>
              </a:rPr>
              <a:t>Volitelně: Secure email gateway  – malý sw, lze instalovat na jakýkoliv Windows server v interní sítí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  <a:p>
            <a:pPr lvl="1" marL="714240" indent="-268200">
              <a:spcBef>
                <a:spcPts val="45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c3c8c"/>
                </a:solidFill>
                <a:latin typeface="Arial"/>
              </a:rPr>
              <a:t>Volitelně: vzdálený SQL server v interní síti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286" name="Zástupný symbol pro číslo snímku 3"/>
          <p:cNvSpPr/>
          <p:nvPr/>
        </p:nvSpPr>
        <p:spPr>
          <a:xfrm>
            <a:off x="8167680" y="6191280"/>
            <a:ext cx="58896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226D4-3399-4BFA-A925-27F8226C4457}" type="slidenum">
              <a:rPr b="0" lang="cs-CZ" sz="1400" spc="-1" strike="noStrike">
                <a:solidFill>
                  <a:srgbClr val="3c3c8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c3c8c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15600" y="1600200"/>
            <a:ext cx="8140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spcBef>
                <a:spcPts val="60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c3c8c"/>
                </a:solidFill>
                <a:latin typeface="Arial"/>
              </a:rPr>
              <a:t>Nasazení XenMobile Device Manager (XDM)</a:t>
            </a: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pic>
        <p:nvPicPr>
          <p:cNvPr id="288" name="Picture 5" descr=""/>
          <p:cNvPicPr/>
          <p:nvPr/>
        </p:nvPicPr>
        <p:blipFill>
          <a:blip r:embed="rId1"/>
          <a:stretch/>
        </p:blipFill>
        <p:spPr>
          <a:xfrm>
            <a:off x="458640" y="1392120"/>
            <a:ext cx="8226720" cy="5224680"/>
          </a:xfrm>
          <a:prstGeom prst="rect">
            <a:avLst/>
          </a:prstGeom>
          <a:ln w="0">
            <a:noFill/>
          </a:ln>
        </p:spPr>
      </p:pic>
      <p:sp>
        <p:nvSpPr>
          <p:cNvPr id="289" name="Zástupný symbol pro číslo snímku 3"/>
          <p:cNvSpPr/>
          <p:nvPr/>
        </p:nvSpPr>
        <p:spPr>
          <a:xfrm>
            <a:off x="8167680" y="6191280"/>
            <a:ext cx="58896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11B7E-BBC6-417D-96E5-4D853F1CFD36}" type="slidenum">
              <a:rPr b="0" lang="cs-CZ" sz="1400" spc="-1" strike="noStrike">
                <a:solidFill>
                  <a:srgbClr val="3c3c8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c3c8c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6T14:57:32Z</dcterms:created>
  <dc:creator>Jiří Kinský</dc:creator>
  <dc:description/>
  <dc:language>en-US</dc:language>
  <cp:lastModifiedBy>Terezka</cp:lastModifiedBy>
  <dcterms:modified xsi:type="dcterms:W3CDTF">2014-07-11T08:12:18Z</dcterms:modified>
  <cp:revision>59</cp:revision>
  <dc:subject/>
  <dc:title>NÁZEV PREZENTACE</dc:title>
</cp:coreProperties>
</file>