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7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26.png" ContentType="image/png"/>
  <Override PartName="/ppt/media/image41.png" ContentType="image/png"/>
  <Override PartName="/ppt/media/image12.png" ContentType="image/png"/>
  <Override PartName="/ppt/media/image37.wmf" ContentType="image/x-wmf"/>
  <Override PartName="/ppt/media/image7.wmf" ContentType="image/x-wmf"/>
  <Override PartName="/ppt/media/image30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43.wmf" ContentType="image/x-wmf"/>
  <Override PartName="/ppt/media/image39.png" ContentType="image/png"/>
  <Override PartName="/ppt/media/image42.wmf" ContentType="image/x-wmf"/>
  <Override PartName="/ppt/media/image9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0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48.png" ContentType="image/png"/>
  <Override PartName="/ppt/media/image10.wmf" ContentType="image/x-wmf"/>
  <Override PartName="/ppt/media/image25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9499-A3F7-439B-BC8C-622CEA534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9030-C9CA-47CC-B0E6-D15F99F60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A829-A053-4474-8D16-96B8AD6EA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816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72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560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816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72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7958-723A-407C-849C-4831893A0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79280" y="236160"/>
            <a:ext cx="584820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4F92-E95F-4F3C-9EF4-6836CC4A6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816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0720" y="160020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560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816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20720" y="3964320"/>
            <a:ext cx="2621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F48B-653E-43E0-8CF8-D048CB5B9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6C6B-5B7F-4958-8CCD-EC24B6223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654A-6B54-4869-BC22-58655049C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79280" y="236160"/>
            <a:ext cx="584820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BCF1-B449-4831-9562-561C3A734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4020-B939-40E6-B522-8CE73B4B3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280" y="396432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D849-DBD1-481E-8909-09359A11D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5600" y="3964320"/>
            <a:ext cx="81406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37FC-D7BA-4D3E-8290-17C08999C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prezentaceOPPa_S2"/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2" marL="1076400" indent="-182520">
              <a:spcBef>
                <a:spcPts val="601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3" marL="152388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4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5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6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c3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5A7C-D210-4071-9318-7CA48F72D0F2}" type="slidenum">
              <a:rPr b="0" lang="cs-CZ" sz="1400" spc="-1" strike="noStrike">
                <a:solidFill>
                  <a:srgbClr val="3c3c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7d41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6838920" y="6361560"/>
            <a:ext cx="12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d42e12"/>
                </a:solidFill>
                <a:latin typeface="Arial"/>
              </a:rPr>
              <a:t>WWW.OPPA.CZ</a:t>
            </a:r>
            <a:endParaRPr b="0" lang="en-US" sz="9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9" descr="prezentaceOPPa_s1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2" marL="1076400" indent="-182520">
              <a:spcBef>
                <a:spcPts val="601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3" marL="1523880" indent="-268200">
              <a:spcBef>
                <a:spcPts val="601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4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5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6" marL="1886040" indent="-182520">
              <a:spcBef>
                <a:spcPts val="601"/>
              </a:spcBef>
              <a:buClr>
                <a:srgbClr val="3c3c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8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7d417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10.wmf"/><Relationship Id="rId16" Type="http://schemas.openxmlformats.org/officeDocument/2006/relationships/image" Target="../media/image11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21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3.png"/><Relationship Id="rId28" Type="http://schemas.openxmlformats.org/officeDocument/2006/relationships/image" Target="../media/image26.png"/><Relationship Id="rId29" Type="http://schemas.openxmlformats.org/officeDocument/2006/relationships/image" Target="../media/image27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28.png"/><Relationship Id="rId33" Type="http://schemas.openxmlformats.org/officeDocument/2006/relationships/image" Target="../media/image22.png"/><Relationship Id="rId3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1025640" y="3009960"/>
            <a:ext cx="765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bile Device Management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038240" y="1236600"/>
            <a:ext cx="6400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6760" indent="-266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EVROPSKÝ SOCIÁLNÍ FOND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46080" y="3952800"/>
            <a:ext cx="495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d42e12"/>
                </a:solidFill>
                <a:latin typeface="Arial"/>
              </a:rPr>
              <a:t>PRAHA </a:t>
            </a:r>
            <a:r>
              <a:rPr b="1" lang="en-US" sz="1800" spc="-1" strike="noStrike">
                <a:solidFill>
                  <a:srgbClr val="d42e12"/>
                </a:solidFill>
                <a:latin typeface="Arial"/>
              </a:rPr>
              <a:t>&amp; EU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STUJEME DO VA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ŠÍ BUDOUCNOSTI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038240" y="5591160"/>
            <a:ext cx="64008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6760" indent="-266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aniel Vodrážka, březen 2014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erze 2.2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Nastavení, správa a kontrola zařízení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Nastavení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Zabezpečení zařízení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Exchange ActiveSync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Přístup browserem do intranetu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VPN, WiFi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Aplikace, konfigurace vlastních aplikací, nastavení záložek 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Správa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Evidence zařízení, soukromá a firemní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Informace o zařízení (stav, OS, verze atd.)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Vzdálené zamčení zařízení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Vzdálené smazání zařízení, všechna nebo jen firemní data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Logy aplikací a komunikace zařízení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Reporting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Lokace zařízení, geotracking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Vzdálená kontrola administrátora nad zařízením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12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E414-26CE-4E48-9021-C4E4D0AB6971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Řízení přístupu do firemní sítě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Server MDM nepřenáší data, jen spravuje zařízení </a:t>
            </a:r>
            <a:br>
              <a:rPr sz="2000"/>
            </a:br>
            <a:r>
              <a:rPr b="1" lang="cs-CZ" sz="2000" spc="-1" strike="noStrike">
                <a:solidFill>
                  <a:srgbClr val="3c3c8c"/>
                </a:solidFill>
                <a:latin typeface="Wingdings"/>
                <a:ea typeface="Wingdings"/>
              </a:rPr>
              <a:t></a:t>
            </a: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3c3c8c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3c3c8c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nutnost řízení dalších přístupových kanálů           (ActiveSync, VPN</a:t>
            </a:r>
            <a:r>
              <a:rPr b="1" lang="en-US" sz="2000" spc="-1" strike="noStrike">
                <a:solidFill>
                  <a:srgbClr val="3c3c8c"/>
                </a:solidFill>
                <a:latin typeface="Arial"/>
              </a:rPr>
              <a:t>, intranet</a:t>
            </a: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 apod.)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15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07E9-385E-4B19-9D38-D3C119CA41B9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116" name="Obrázek 4" descr=""/>
          <p:cNvPicPr/>
          <p:nvPr/>
        </p:nvPicPr>
        <p:blipFill>
          <a:blip r:embed="rId1"/>
          <a:stretch/>
        </p:blipFill>
        <p:spPr>
          <a:xfrm>
            <a:off x="684360" y="2857680"/>
            <a:ext cx="2803320" cy="3379680"/>
          </a:xfrm>
          <a:prstGeom prst="rect">
            <a:avLst/>
          </a:prstGeom>
          <a:ln w="0">
            <a:noFill/>
          </a:ln>
        </p:spPr>
      </p:pic>
      <p:pic>
        <p:nvPicPr>
          <p:cNvPr id="117" name="Obrázek 5" descr=""/>
          <p:cNvPicPr/>
          <p:nvPr/>
        </p:nvPicPr>
        <p:blipFill>
          <a:blip r:embed="rId2"/>
          <a:stretch/>
        </p:blipFill>
        <p:spPr>
          <a:xfrm>
            <a:off x="4643280" y="2852640"/>
            <a:ext cx="3241800" cy="3384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Řízení přístupu do firemní sítě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Automatické odepření přístupu k firemním datům v případě porušení pravidel zabezpečení zařízení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Možnost definovat akce při porušení pravidel (např. poslat email administrátorovi, smazat zařízení apod.)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Riziko VPN – VPN je navazována pro celé zařízení, je nutné omezit VPN jen pro vyjmenované aplikace!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Některá řešení MDM poskytují vlastní šifrovaný tunel do firemní sítě (web browser, skutečná VPN)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20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F1F2-EB47-405E-BC4C-B25812E801B5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VPN a AppTunnel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60CE-2AF7-4AD0-B4A6-B7C96BFA83C4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23" name="TextBox 57"/>
          <p:cNvSpPr/>
          <p:nvPr/>
        </p:nvSpPr>
        <p:spPr>
          <a:xfrm rot="16200000">
            <a:off x="5088960" y="1650960"/>
            <a:ext cx="13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124" name="Picture 80" descr="17.png"/>
          <p:cNvPicPr/>
          <p:nvPr/>
        </p:nvPicPr>
        <p:blipFill>
          <a:blip r:embed="rId1"/>
          <a:stretch/>
        </p:blipFill>
        <p:spPr>
          <a:xfrm>
            <a:off x="8251920" y="4800600"/>
            <a:ext cx="263520" cy="39852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68"/>
          <p:cNvGrpSpPr/>
          <p:nvPr/>
        </p:nvGrpSpPr>
        <p:grpSpPr>
          <a:xfrm>
            <a:off x="6659640" y="1557360"/>
            <a:ext cx="2162160" cy="2160720"/>
            <a:chOff x="6659640" y="1557360"/>
            <a:chExt cx="2162160" cy="2160720"/>
          </a:xfrm>
        </p:grpSpPr>
        <p:grpSp>
          <p:nvGrpSpPr>
            <p:cNvPr id="126" name="Group 123"/>
            <p:cNvGrpSpPr/>
            <p:nvPr/>
          </p:nvGrpSpPr>
          <p:grpSpPr>
            <a:xfrm>
              <a:off x="6659640" y="1557360"/>
              <a:ext cx="2162160" cy="2160720"/>
              <a:chOff x="6659640" y="1557360"/>
              <a:chExt cx="2162160" cy="2160720"/>
            </a:xfrm>
          </p:grpSpPr>
          <p:pic>
            <p:nvPicPr>
              <p:cNvPr id="127" name="Picture 126" descr=""/>
              <p:cNvPicPr/>
              <p:nvPr/>
            </p:nvPicPr>
            <p:blipFill>
              <a:blip r:embed="rId2"/>
              <a:stretch/>
            </p:blipFill>
            <p:spPr>
              <a:xfrm>
                <a:off x="6659640" y="1557360"/>
                <a:ext cx="2162160" cy="216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Picture 127" descr="4.png"/>
              <p:cNvPicPr/>
              <p:nvPr/>
            </p:nvPicPr>
            <p:blipFill>
              <a:blip r:embed="rId3"/>
              <a:stretch/>
            </p:blipFill>
            <p:spPr>
              <a:xfrm>
                <a:off x="7307640" y="1999440"/>
                <a:ext cx="827280" cy="1325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9" name="Picture 124" descr="17.png"/>
            <p:cNvPicPr/>
            <p:nvPr/>
          </p:nvPicPr>
          <p:blipFill>
            <a:blip r:embed="rId4"/>
            <a:stretch/>
          </p:blipFill>
          <p:spPr>
            <a:xfrm>
              <a:off x="7438320" y="1873800"/>
              <a:ext cx="263880" cy="3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25" descr="17.png"/>
            <p:cNvPicPr/>
            <p:nvPr/>
          </p:nvPicPr>
          <p:blipFill>
            <a:blip r:embed="rId5"/>
            <a:stretch/>
          </p:blipFill>
          <p:spPr>
            <a:xfrm>
              <a:off x="7665480" y="3114360"/>
              <a:ext cx="263880" cy="39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69" descr="20a.png"/>
          <p:cNvPicPr/>
          <p:nvPr/>
        </p:nvPicPr>
        <p:blipFill>
          <a:blip r:embed="rId6"/>
          <a:stretch/>
        </p:blipFill>
        <p:spPr>
          <a:xfrm>
            <a:off x="5594400" y="1201680"/>
            <a:ext cx="328680" cy="26989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7"/>
          <p:cNvSpPr/>
          <p:nvPr/>
        </p:nvSpPr>
        <p:spPr>
          <a:xfrm rot="16200000">
            <a:off x="5088960" y="1650960"/>
            <a:ext cx="13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grpSp>
        <p:nvGrpSpPr>
          <p:cNvPr id="133" name="Group 71"/>
          <p:cNvGrpSpPr/>
          <p:nvPr/>
        </p:nvGrpSpPr>
        <p:grpSpPr>
          <a:xfrm>
            <a:off x="1892160" y="1952640"/>
            <a:ext cx="1262160" cy="1701720"/>
            <a:chOff x="1892160" y="1952640"/>
            <a:chExt cx="1262160" cy="1701720"/>
          </a:xfrm>
        </p:grpSpPr>
        <p:pic>
          <p:nvPicPr>
            <p:cNvPr id="134" name="Picture 121" descr="7.png"/>
            <p:cNvPicPr/>
            <p:nvPr/>
          </p:nvPicPr>
          <p:blipFill>
            <a:blip r:embed="rId7"/>
            <a:stretch/>
          </p:blipFill>
          <p:spPr>
            <a:xfrm>
              <a:off x="2515320" y="1952640"/>
              <a:ext cx="639000" cy="46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22" descr="3.png"/>
            <p:cNvPicPr/>
            <p:nvPr/>
          </p:nvPicPr>
          <p:blipFill>
            <a:blip r:embed="rId8"/>
            <a:stretch/>
          </p:blipFill>
          <p:spPr>
            <a:xfrm>
              <a:off x="1892160" y="2158920"/>
              <a:ext cx="1089000" cy="14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Group 72"/>
          <p:cNvGrpSpPr/>
          <p:nvPr/>
        </p:nvGrpSpPr>
        <p:grpSpPr>
          <a:xfrm>
            <a:off x="3153960" y="1501920"/>
            <a:ext cx="4405320" cy="2270160"/>
            <a:chOff x="3153960" y="1501920"/>
            <a:chExt cx="4405320" cy="2270160"/>
          </a:xfrm>
        </p:grpSpPr>
        <p:pic>
          <p:nvPicPr>
            <p:cNvPr id="137" name="Picture 119" descr="15b.png"/>
            <p:cNvPicPr/>
            <p:nvPr/>
          </p:nvPicPr>
          <p:blipFill>
            <a:blip r:embed="rId9"/>
            <a:stretch/>
          </p:blipFill>
          <p:spPr>
            <a:xfrm flipH="1">
              <a:off x="3153960" y="1501920"/>
              <a:ext cx="4405320" cy="22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56"/>
            <p:cNvSpPr/>
            <p:nvPr/>
          </p:nvSpPr>
          <p:spPr>
            <a:xfrm flipH="1">
              <a:off x="5254200" y="2473920"/>
              <a:ext cx="15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PN</a:t>
              </a:r>
              <a:endParaRPr b="0" lang="en-US" sz="1800" spc="-1" strike="noStrike">
                <a:solidFill>
                  <a:srgbClr val="3c3c8c"/>
                </a:solidFill>
                <a:latin typeface="Arial"/>
              </a:endParaRPr>
            </a:p>
          </p:txBody>
        </p:sp>
      </p:grpSp>
      <p:pic>
        <p:nvPicPr>
          <p:cNvPr id="139" name="Picture 73" descr="14b.png"/>
          <p:cNvPicPr/>
          <p:nvPr/>
        </p:nvPicPr>
        <p:blipFill>
          <a:blip r:embed="rId10"/>
          <a:stretch/>
        </p:blipFill>
        <p:spPr>
          <a:xfrm>
            <a:off x="4757760" y="1998720"/>
            <a:ext cx="625320" cy="627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4" descr="14c.png"/>
          <p:cNvPicPr/>
          <p:nvPr/>
        </p:nvPicPr>
        <p:blipFill>
          <a:blip r:embed="rId11"/>
          <a:stretch/>
        </p:blipFill>
        <p:spPr>
          <a:xfrm>
            <a:off x="4060800" y="1639800"/>
            <a:ext cx="627120" cy="625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5" descr="14d.png"/>
          <p:cNvPicPr/>
          <p:nvPr/>
        </p:nvPicPr>
        <p:blipFill>
          <a:blip r:embed="rId12"/>
          <a:stretch/>
        </p:blipFill>
        <p:spPr>
          <a:xfrm>
            <a:off x="3376440" y="270180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6" descr="14f.png"/>
          <p:cNvPicPr/>
          <p:nvPr/>
        </p:nvPicPr>
        <p:blipFill>
          <a:blip r:embed="rId13"/>
          <a:stretch/>
        </p:blipFill>
        <p:spPr>
          <a:xfrm>
            <a:off x="4375080" y="3027240"/>
            <a:ext cx="625680" cy="6271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82"/>
          <p:cNvSpPr/>
          <p:nvPr/>
        </p:nvSpPr>
        <p:spPr>
          <a:xfrm>
            <a:off x="425520" y="2535120"/>
            <a:ext cx="15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Klasická VPN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144" name="Picture 78" descr="4c.png"/>
          <p:cNvPicPr/>
          <p:nvPr/>
        </p:nvPicPr>
        <p:blipFill>
          <a:blip r:embed="rId14"/>
          <a:stretch/>
        </p:blipFill>
        <p:spPr>
          <a:xfrm>
            <a:off x="3378240" y="1857240"/>
            <a:ext cx="627120" cy="62712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79"/>
          <p:cNvGrpSpPr/>
          <p:nvPr/>
        </p:nvGrpSpPr>
        <p:grpSpPr>
          <a:xfrm>
            <a:off x="6659640" y="4029120"/>
            <a:ext cx="2162160" cy="2162160"/>
            <a:chOff x="6659640" y="4029120"/>
            <a:chExt cx="2162160" cy="2162160"/>
          </a:xfrm>
        </p:grpSpPr>
        <p:grpSp>
          <p:nvGrpSpPr>
            <p:cNvPr id="146" name="Group 114"/>
            <p:cNvGrpSpPr/>
            <p:nvPr/>
          </p:nvGrpSpPr>
          <p:grpSpPr>
            <a:xfrm>
              <a:off x="6659640" y="4029120"/>
              <a:ext cx="2162160" cy="2162160"/>
              <a:chOff x="6659640" y="4029120"/>
              <a:chExt cx="2162160" cy="2162160"/>
            </a:xfrm>
          </p:grpSpPr>
          <p:pic>
            <p:nvPicPr>
              <p:cNvPr id="147" name="Picture 117" descr=""/>
              <p:cNvPicPr/>
              <p:nvPr/>
            </p:nvPicPr>
            <p:blipFill>
              <a:blip r:embed="rId15"/>
              <a:stretch/>
            </p:blipFill>
            <p:spPr>
              <a:xfrm>
                <a:off x="6659640" y="4029120"/>
                <a:ext cx="2162160" cy="216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118" descr="4.png"/>
              <p:cNvPicPr/>
              <p:nvPr/>
            </p:nvPicPr>
            <p:blipFill>
              <a:blip r:embed="rId16"/>
              <a:stretch/>
            </p:blipFill>
            <p:spPr>
              <a:xfrm>
                <a:off x="7307640" y="4471560"/>
                <a:ext cx="827280" cy="1326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9" name="Picture 115" descr="17.png"/>
            <p:cNvPicPr/>
            <p:nvPr/>
          </p:nvPicPr>
          <p:blipFill>
            <a:blip r:embed="rId17"/>
            <a:stretch/>
          </p:blipFill>
          <p:spPr>
            <a:xfrm>
              <a:off x="7438320" y="4345920"/>
              <a:ext cx="263880" cy="3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16" descr="17.png"/>
            <p:cNvPicPr/>
            <p:nvPr/>
          </p:nvPicPr>
          <p:blipFill>
            <a:blip r:embed="rId18"/>
            <a:stretch/>
          </p:blipFill>
          <p:spPr>
            <a:xfrm>
              <a:off x="7665480" y="5587200"/>
              <a:ext cx="263880" cy="39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Picture 80" descr="17.png"/>
          <p:cNvPicPr/>
          <p:nvPr/>
        </p:nvPicPr>
        <p:blipFill>
          <a:blip r:embed="rId19"/>
          <a:stretch/>
        </p:blipFill>
        <p:spPr>
          <a:xfrm>
            <a:off x="8251920" y="4800600"/>
            <a:ext cx="263520" cy="398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1" descr="56.png"/>
          <p:cNvPicPr/>
          <p:nvPr/>
        </p:nvPicPr>
        <p:blipFill>
          <a:blip r:embed="rId20"/>
          <a:stretch/>
        </p:blipFill>
        <p:spPr>
          <a:xfrm>
            <a:off x="3979800" y="4459320"/>
            <a:ext cx="4235400" cy="14922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82"/>
          <p:cNvGrpSpPr/>
          <p:nvPr/>
        </p:nvGrpSpPr>
        <p:grpSpPr>
          <a:xfrm>
            <a:off x="5877000" y="4321080"/>
            <a:ext cx="1617480" cy="1484640"/>
            <a:chOff x="5877000" y="4321080"/>
            <a:chExt cx="1617480" cy="1484640"/>
          </a:xfrm>
        </p:grpSpPr>
        <p:sp>
          <p:nvSpPr>
            <p:cNvPr id="154" name="TextBox 58"/>
            <p:cNvSpPr/>
            <p:nvPr/>
          </p:nvSpPr>
          <p:spPr>
            <a:xfrm>
              <a:off x="5877000" y="4723200"/>
              <a:ext cx="161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323277"/>
                  </a:solidFill>
                  <a:latin typeface="Arial"/>
                </a:rPr>
                <a:t>AppTunnel</a:t>
              </a:r>
              <a:endParaRPr b="0" lang="en-US" sz="1000" spc="-1" strike="noStrike">
                <a:solidFill>
                  <a:srgbClr val="3c3c8c"/>
                </a:solidFill>
                <a:latin typeface="Arial"/>
              </a:endParaRPr>
            </a:p>
          </p:txBody>
        </p:sp>
        <p:sp>
          <p:nvSpPr>
            <p:cNvPr id="155" name="TextBox 59"/>
            <p:cNvSpPr/>
            <p:nvPr/>
          </p:nvSpPr>
          <p:spPr>
            <a:xfrm>
              <a:off x="5877000" y="4321080"/>
              <a:ext cx="110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323277"/>
                  </a:solidFill>
                  <a:latin typeface="Arial"/>
                </a:rPr>
                <a:t>AppTunnel</a:t>
              </a:r>
              <a:endParaRPr b="0" lang="en-US" sz="1000" spc="-1" strike="noStrike">
                <a:solidFill>
                  <a:srgbClr val="3c3c8c"/>
                </a:solidFill>
                <a:latin typeface="Arial"/>
              </a:endParaRPr>
            </a:p>
          </p:txBody>
        </p:sp>
        <p:sp>
          <p:nvSpPr>
            <p:cNvPr id="156" name="TextBox 60"/>
            <p:cNvSpPr/>
            <p:nvPr/>
          </p:nvSpPr>
          <p:spPr>
            <a:xfrm>
              <a:off x="5877000" y="5559480"/>
              <a:ext cx="161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323277"/>
                  </a:solidFill>
                  <a:latin typeface="Arial"/>
                </a:rPr>
                <a:t>AppTunnel</a:t>
              </a:r>
              <a:endParaRPr b="0" lang="en-US" sz="1000" spc="-1" strike="noStrike">
                <a:solidFill>
                  <a:srgbClr val="3c3c8c"/>
                </a:solidFill>
                <a:latin typeface="Arial"/>
              </a:endParaRPr>
            </a:p>
          </p:txBody>
        </p:sp>
      </p:grpSp>
      <p:pic>
        <p:nvPicPr>
          <p:cNvPr id="157" name="Picture 83" descr="14b.png"/>
          <p:cNvPicPr/>
          <p:nvPr/>
        </p:nvPicPr>
        <p:blipFill>
          <a:blip r:embed="rId21"/>
          <a:stretch/>
        </p:blipFill>
        <p:spPr>
          <a:xfrm>
            <a:off x="4011480" y="51973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4" descr="14c.png"/>
          <p:cNvPicPr/>
          <p:nvPr/>
        </p:nvPicPr>
        <p:blipFill>
          <a:blip r:embed="rId22"/>
          <a:stretch/>
        </p:blipFill>
        <p:spPr>
          <a:xfrm>
            <a:off x="3995640" y="6026040"/>
            <a:ext cx="625680" cy="627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5" descr="14a.png"/>
          <p:cNvPicPr/>
          <p:nvPr/>
        </p:nvPicPr>
        <p:blipFill>
          <a:blip r:embed="rId23"/>
          <a:stretch/>
        </p:blipFill>
        <p:spPr>
          <a:xfrm>
            <a:off x="3265560" y="5913360"/>
            <a:ext cx="627120" cy="62712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88"/>
          <p:cNvGrpSpPr/>
          <p:nvPr/>
        </p:nvGrpSpPr>
        <p:grpSpPr>
          <a:xfrm>
            <a:off x="4115880" y="4222800"/>
            <a:ext cx="885960" cy="709560"/>
            <a:chOff x="4115880" y="4222800"/>
            <a:chExt cx="885960" cy="709560"/>
          </a:xfrm>
        </p:grpSpPr>
        <p:pic>
          <p:nvPicPr>
            <p:cNvPr id="161" name="Picture 109" descr="53b.png"/>
            <p:cNvPicPr/>
            <p:nvPr/>
          </p:nvPicPr>
          <p:blipFill>
            <a:blip r:embed="rId24"/>
            <a:stretch/>
          </p:blipFill>
          <p:spPr>
            <a:xfrm flipH="1">
              <a:off x="4115880" y="4222800"/>
              <a:ext cx="88596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10" descr="4b.png"/>
            <p:cNvPicPr/>
            <p:nvPr/>
          </p:nvPicPr>
          <p:blipFill>
            <a:blip r:embed="rId25"/>
            <a:stretch/>
          </p:blipFill>
          <p:spPr>
            <a:xfrm>
              <a:off x="4151880" y="4275720"/>
              <a:ext cx="627480" cy="62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3" name="Picture 89" descr="53b.png"/>
          <p:cNvPicPr/>
          <p:nvPr/>
        </p:nvPicPr>
        <p:blipFill>
          <a:blip r:embed="rId26"/>
          <a:stretch/>
        </p:blipFill>
        <p:spPr>
          <a:xfrm>
            <a:off x="4680000" y="5464080"/>
            <a:ext cx="879480" cy="70956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90"/>
          <p:cNvGrpSpPr/>
          <p:nvPr/>
        </p:nvGrpSpPr>
        <p:grpSpPr>
          <a:xfrm>
            <a:off x="3110040" y="4659480"/>
            <a:ext cx="885600" cy="709560"/>
            <a:chOff x="3110040" y="4659480"/>
            <a:chExt cx="885600" cy="709560"/>
          </a:xfrm>
        </p:grpSpPr>
        <p:pic>
          <p:nvPicPr>
            <p:cNvPr id="165" name="Picture 107" descr="53b.png"/>
            <p:cNvPicPr/>
            <p:nvPr/>
          </p:nvPicPr>
          <p:blipFill>
            <a:blip r:embed="rId27"/>
            <a:stretch/>
          </p:blipFill>
          <p:spPr>
            <a:xfrm>
              <a:off x="3110040" y="4659480"/>
              <a:ext cx="88560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08" descr="4d.png"/>
            <p:cNvPicPr/>
            <p:nvPr/>
          </p:nvPicPr>
          <p:blipFill>
            <a:blip r:embed="rId28"/>
            <a:stretch/>
          </p:blipFill>
          <p:spPr>
            <a:xfrm>
              <a:off x="3333240" y="4717440"/>
              <a:ext cx="627120" cy="62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Picture 91" descr="4f.png"/>
          <p:cNvPicPr/>
          <p:nvPr/>
        </p:nvPicPr>
        <p:blipFill>
          <a:blip r:embed="rId29"/>
          <a:stretch/>
        </p:blipFill>
        <p:spPr>
          <a:xfrm>
            <a:off x="4721400" y="5519880"/>
            <a:ext cx="626760" cy="62532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92"/>
          <p:cNvGrpSpPr/>
          <p:nvPr/>
        </p:nvGrpSpPr>
        <p:grpSpPr>
          <a:xfrm>
            <a:off x="1892160" y="4613400"/>
            <a:ext cx="1262160" cy="1701720"/>
            <a:chOff x="1892160" y="4613400"/>
            <a:chExt cx="1262160" cy="1701720"/>
          </a:xfrm>
        </p:grpSpPr>
        <p:pic>
          <p:nvPicPr>
            <p:cNvPr id="169" name="Picture 105" descr="7.png"/>
            <p:cNvPicPr/>
            <p:nvPr/>
          </p:nvPicPr>
          <p:blipFill>
            <a:blip r:embed="rId30"/>
            <a:stretch/>
          </p:blipFill>
          <p:spPr>
            <a:xfrm>
              <a:off x="2515320" y="4613400"/>
              <a:ext cx="639000" cy="46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06" descr="3.png"/>
            <p:cNvPicPr/>
            <p:nvPr/>
          </p:nvPicPr>
          <p:blipFill>
            <a:blip r:embed="rId31"/>
            <a:stretch/>
          </p:blipFill>
          <p:spPr>
            <a:xfrm>
              <a:off x="1892160" y="4819680"/>
              <a:ext cx="1089000" cy="14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93"/>
          <p:cNvGrpSpPr/>
          <p:nvPr/>
        </p:nvGrpSpPr>
        <p:grpSpPr>
          <a:xfrm>
            <a:off x="5603760" y="3956040"/>
            <a:ext cx="320760" cy="2703600"/>
            <a:chOff x="5603760" y="3956040"/>
            <a:chExt cx="320760" cy="2703600"/>
          </a:xfrm>
        </p:grpSpPr>
        <p:sp>
          <p:nvSpPr>
            <p:cNvPr id="172" name="Rounded Rectangle 101"/>
            <p:cNvSpPr/>
            <p:nvPr/>
          </p:nvSpPr>
          <p:spPr>
            <a:xfrm>
              <a:off x="5603760" y="3956040"/>
              <a:ext cx="320760" cy="2703600"/>
            </a:xfrm>
            <a:custGeom>
              <a:avLst/>
              <a:gdLst>
                <a:gd name="textAreaLeft" fmla="*/ 1800 w 320760"/>
                <a:gd name="textAreaRight" fmla="*/ 318960 w 320760"/>
                <a:gd name="textAreaTop" fmla="*/ 1800 h 2703600"/>
                <a:gd name="textAreaBottom" fmla="*/ 2701800 h 2703600"/>
              </a:gdLst>
              <a:ahLst/>
              <a:rect l="textAreaLeft" t="textAreaTop" r="textAreaRight" b="textAreaBottom"/>
              <a:pathLst>
                <a:path w="21600" h="181881">
                  <a:moveTo>
                    <a:pt x="423" y="0"/>
                  </a:moveTo>
                  <a:arcTo wR="423" hR="423" stAng="16200000" swAng="-5400000"/>
                  <a:lnTo>
                    <a:pt x="0" y="181458"/>
                  </a:lnTo>
                  <a:arcTo wR="423" hR="423" stAng="10800000" swAng="-5400000"/>
                  <a:lnTo>
                    <a:pt x="21177" y="181881"/>
                  </a:lnTo>
                  <a:arcTo wR="423" hR="423" stAng="5400000" swAng="-5400000"/>
                  <a:lnTo>
                    <a:pt x="21600" y="423"/>
                  </a:lnTo>
                  <a:arcTo wR="423" hR="423" stAng="0" swAng="-5400000"/>
                  <a:close/>
                </a:path>
              </a:pathLst>
            </a:custGeom>
            <a:solidFill>
              <a:srgbClr val="4a4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c3c8c"/>
                </a:solidFill>
                <a:latin typeface="Arial"/>
              </a:endParaRPr>
            </a:p>
          </p:txBody>
        </p:sp>
        <p:grpSp>
          <p:nvGrpSpPr>
            <p:cNvPr id="173" name="Group 102"/>
            <p:cNvGrpSpPr/>
            <p:nvPr/>
          </p:nvGrpSpPr>
          <p:grpSpPr>
            <a:xfrm>
              <a:off x="5614560" y="5149800"/>
              <a:ext cx="307080" cy="1336680"/>
              <a:chOff x="5614560" y="5149800"/>
              <a:chExt cx="307080" cy="1336680"/>
            </a:xfrm>
          </p:grpSpPr>
          <p:sp>
            <p:nvSpPr>
              <p:cNvPr id="174" name="TextBox 88"/>
              <p:cNvSpPr/>
              <p:nvPr/>
            </p:nvSpPr>
            <p:spPr>
              <a:xfrm rot="16200000">
                <a:off x="5099760" y="5664600"/>
                <a:ext cx="133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ENTRY</a:t>
                </a:r>
                <a:endParaRPr b="0" lang="en-US" sz="1400" spc="-1" strike="noStrike">
                  <a:solidFill>
                    <a:srgbClr val="3c3c8c"/>
                  </a:solidFill>
                  <a:latin typeface="Arial"/>
                </a:endParaRPr>
              </a:p>
            </p:txBody>
          </p:sp>
          <p:pic>
            <p:nvPicPr>
              <p:cNvPr id="175" name="Picture 104" descr="13.png"/>
              <p:cNvPicPr/>
              <p:nvPr/>
            </p:nvPicPr>
            <p:blipFill>
              <a:blip r:embed="rId32"/>
              <a:stretch/>
            </p:blipFill>
            <p:spPr>
              <a:xfrm rot="16200000">
                <a:off x="5676480" y="6259320"/>
                <a:ext cx="188280" cy="188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6" name="Slide Number Placeholder 4"/>
          <p:cNvSpPr/>
          <p:nvPr/>
        </p:nvSpPr>
        <p:spPr>
          <a:xfrm>
            <a:off x="949320" y="64897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E7A9D-9708-46F9-AE8B-E279A3D49831}" type="slidenum">
              <a:rPr b="0" lang="en-US" sz="8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177" name="Picture 95" descr="14a.png"/>
          <p:cNvPicPr/>
          <p:nvPr/>
        </p:nvPicPr>
        <p:blipFill>
          <a:blip r:embed="rId33"/>
          <a:stretch/>
        </p:blipFill>
        <p:spPr>
          <a:xfrm>
            <a:off x="4057560" y="2313000"/>
            <a:ext cx="627120" cy="625320"/>
          </a:xfrm>
          <a:prstGeom prst="rect">
            <a:avLst/>
          </a:prstGeom>
          <a:ln w="0">
            <a:noFill/>
          </a:ln>
        </p:spPr>
      </p:pic>
      <p:cxnSp>
        <p:nvCxnSpPr>
          <p:cNvPr id="178" name="Elbow Connector 96"/>
          <p:cNvCxnSpPr>
            <a:endCxn id="130" idx="0"/>
          </p:cNvCxnSpPr>
          <p:nvPr/>
        </p:nvCxnSpPr>
        <p:spPr>
          <a:xfrm>
            <a:off x="4679640" y="2771280"/>
            <a:ext cx="3118680" cy="343800"/>
          </a:xfrm>
          <a:prstGeom prst="bentConnector2">
            <a:avLst/>
          </a:prstGeom>
          <a:ln w="38160">
            <a:solidFill>
              <a:srgbClr val="f7d417"/>
            </a:solidFill>
            <a:prstDash val="sysDash"/>
            <a:miter/>
            <a:tailEnd len="lg" type="arrow" w="lg"/>
          </a:ln>
        </p:spPr>
      </p:cxnSp>
      <p:cxnSp>
        <p:nvCxnSpPr>
          <p:cNvPr id="179" name="Straight Arrow Connector 97"/>
          <p:cNvCxnSpPr/>
          <p:nvPr/>
        </p:nvCxnSpPr>
        <p:spPr>
          <a:xfrm flipV="1">
            <a:off x="3892680" y="6339960"/>
            <a:ext cx="1722960" cy="15120"/>
          </a:xfrm>
          <a:prstGeom prst="straightConnector1">
            <a:avLst/>
          </a:prstGeom>
          <a:ln w="38160">
            <a:solidFill>
              <a:srgbClr val="f7d417"/>
            </a:solidFill>
            <a:prstDash val="sysDash"/>
            <a:miter/>
            <a:tailEnd len="lg" type="arrow" w="lg"/>
          </a:ln>
        </p:spPr>
      </p:cxnSp>
      <p:grpSp>
        <p:nvGrpSpPr>
          <p:cNvPr id="180" name="Group 98"/>
          <p:cNvGrpSpPr/>
          <p:nvPr/>
        </p:nvGrpSpPr>
        <p:grpSpPr>
          <a:xfrm>
            <a:off x="5235480" y="6105600"/>
            <a:ext cx="493920" cy="476280"/>
            <a:chOff x="5235480" y="6105600"/>
            <a:chExt cx="493920" cy="476280"/>
          </a:xfrm>
        </p:grpSpPr>
        <p:sp>
          <p:nvSpPr>
            <p:cNvPr id="181" name="Oval 99"/>
            <p:cNvSpPr/>
            <p:nvPr/>
          </p:nvSpPr>
          <p:spPr>
            <a:xfrm>
              <a:off x="5235480" y="6105600"/>
              <a:ext cx="490680" cy="461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7d4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c3c8c"/>
                </a:solidFill>
                <a:latin typeface="Arial"/>
              </a:endParaRPr>
            </a:p>
          </p:txBody>
        </p:sp>
        <p:sp>
          <p:nvSpPr>
            <p:cNvPr id="182" name="&quot;No&quot; Symbol 100"/>
            <p:cNvSpPr/>
            <p:nvPr/>
          </p:nvSpPr>
          <p:spPr>
            <a:xfrm>
              <a:off x="5238720" y="6120360"/>
              <a:ext cx="490680" cy="461520"/>
            </a:xfrm>
            <a:custGeom>
              <a:avLst/>
              <a:gdLst/>
              <a:ahLst/>
              <a:rect l="l" t="t" r="r" b="b"/>
              <a:pathLst>
                <a:path w="323615" h="289605">
                  <a:moveTo>
                    <a:pt x="0" y="144803"/>
                  </a:moveTo>
                  <a:cubicBezTo>
                    <a:pt x="0" y="64831"/>
                    <a:pt x="72444" y="0"/>
                    <a:pt x="161808" y="0"/>
                  </a:cubicBezTo>
                  <a:cubicBezTo>
                    <a:pt x="251172" y="0"/>
                    <a:pt x="323616" y="64831"/>
                    <a:pt x="323616" y="144803"/>
                  </a:cubicBezTo>
                  <a:cubicBezTo>
                    <a:pt x="323616" y="224775"/>
                    <a:pt x="251172" y="289606"/>
                    <a:pt x="161808" y="289606"/>
                  </a:cubicBezTo>
                  <a:cubicBezTo>
                    <a:pt x="72444" y="289606"/>
                    <a:pt x="0" y="224775"/>
                    <a:pt x="0" y="144803"/>
                  </a:cubicBezTo>
                  <a:close/>
                  <a:moveTo>
                    <a:pt x="254342" y="190873"/>
                  </a:moveTo>
                  <a:cubicBezTo>
                    <a:pt x="282209" y="151207"/>
                    <a:pt x="270219" y="100247"/>
                    <a:pt x="226495" y="72518"/>
                  </a:cubicBezTo>
                  <a:cubicBezTo>
                    <a:pt x="192860" y="51187"/>
                    <a:pt x="147527" y="48352"/>
                    <a:pt x="110516" y="65265"/>
                  </a:cubicBezTo>
                  <a:lnTo>
                    <a:pt x="254342" y="190873"/>
                  </a:lnTo>
                  <a:close/>
                  <a:moveTo>
                    <a:pt x="69273" y="98732"/>
                  </a:moveTo>
                  <a:cubicBezTo>
                    <a:pt x="41406" y="138398"/>
                    <a:pt x="53396" y="189358"/>
                    <a:pt x="97120" y="217087"/>
                  </a:cubicBezTo>
                  <a:cubicBezTo>
                    <a:pt x="130755" y="238418"/>
                    <a:pt x="176088" y="241253"/>
                    <a:pt x="213099" y="224340"/>
                  </a:cubicBezTo>
                  <a:lnTo>
                    <a:pt x="69273" y="98732"/>
                  </a:lnTo>
                  <a:close/>
                </a:path>
              </a:pathLst>
            </a:custGeom>
            <a:solidFill>
              <a:srgbClr val="f7d417"/>
            </a:solidFill>
            <a:ln w="9360">
              <a:solidFill>
                <a:srgbClr val="f7d417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c3c8c"/>
                </a:solidFill>
                <a:latin typeface="Arial"/>
              </a:endParaRPr>
            </a:p>
          </p:txBody>
        </p:sp>
      </p:grpSp>
      <p:sp>
        <p:nvSpPr>
          <p:cNvPr id="183" name="TextBox 82"/>
          <p:cNvSpPr/>
          <p:nvPr/>
        </p:nvSpPr>
        <p:spPr>
          <a:xfrm>
            <a:off x="307800" y="537048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3c3c8c"/>
                </a:solidFill>
                <a:latin typeface="Arial"/>
              </a:rPr>
              <a:t>Per App VPN Apptunnel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84" name="TextBox 56"/>
          <p:cNvSpPr/>
          <p:nvPr/>
        </p:nvSpPr>
        <p:spPr>
          <a:xfrm flipH="1">
            <a:off x="5319720" y="2440080"/>
            <a:ext cx="15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VPN</a:t>
            </a:r>
            <a:endParaRPr b="0" lang="en-US" sz="18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Zabezpečení zařízení a dat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3880" indent="-26388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Bezpečnost x použitelnost zařízení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Koncept sandboxingu – aplikace a její data na jednom místě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07040" indent="-2653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Nelze přistupovat k datům jiných aplikací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07040" indent="-2653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Aplikace může svá data poslat do jiné aplikace (např. „open with“ v emailu)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Detekce jailbreak a root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Bezpečnostní politiky (hesla, šifrování obsahu, zákaz funkcí zařízení a mnoho dalšího)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Autentifikace uživatele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07040" indent="-2653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Heslo, certifikáty, dvoufaktorové ověřování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Zápisy certifikátů, propojení s firemní PKI,</a:t>
            </a:r>
            <a:br>
              <a:rPr sz="2000"/>
            </a:b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uživatelské certifikáty, certifikáty zařízení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Ochrana proti útokům a malware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07040" indent="-2653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Man in the Middle – problematika důvěryhodnosti</a:t>
            </a:r>
            <a:br>
              <a:rPr sz="1600"/>
            </a:b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serverových certifikátů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3880" indent="-26388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4921-E51C-44AB-A9A4-516A703AA8A6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188" name="Picture 1" descr=""/>
          <p:cNvPicPr/>
          <p:nvPr/>
        </p:nvPicPr>
        <p:blipFill>
          <a:blip r:embed="rId1"/>
          <a:stretch/>
        </p:blipFill>
        <p:spPr>
          <a:xfrm>
            <a:off x="6948360" y="4102200"/>
            <a:ext cx="2141640" cy="21351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Správa a kontrola firemních dokumentů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iOS i Android umí kontrolovat data v rámci jedné aplikace (sandboxing)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Odesláním dat do jiné aplikace (např. otevření přílohy Office z emailu) ztrácíme nad daty kontrolu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c3c8c"/>
                </a:solidFill>
                <a:uFillTx/>
                <a:latin typeface="Arial"/>
              </a:rPr>
              <a:t>Řešení:</a:t>
            </a: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 správa dokumentů pomocí MDM – dokumenty prochází přes komponentu MDM – ta zajistí, že mimo klienta MDM nepůjdou otevřít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Správa příloh emailů a dokumentů ze serveru MS Sharepoint – lze definovat omezení práce s dokumentem (zákaz uložení, kopírování, editování, screenshot apod.)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0A5B-B87B-4974-9D14-27CEA6310D63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Správa a kontrola firemních dokumentů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343E-4A96-4C1E-A156-702AEEEE01E0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763640" y="1362240"/>
            <a:ext cx="5938920" cy="4454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Správa aplikací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Výpis aplikací instalovaných na mobilním zařízení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Whitelisting a blacklisting aplikací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Distribuce aplikací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Uživatelé musí mít Apple ID a/nebo Gmail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Z AppStore nebo Google Play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Přímé poslání instalačního balíčku do zařízení (jen některé platformy)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Z firemního aplikačního portálu (vlastí i cizí aplikace)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Kontrola malware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C6C1-BDD3-41AE-BD3F-FC21D108C6E9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5859360" y="2212920"/>
            <a:ext cx="2521080" cy="16700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Ovládání řešení, podpora uživatelů a řešení problémů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Nejčastěji webová konzole pro správu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Informace o zařízení (typ a stav zařízení, verze OS, různá IDs, stav připojení,  instalované aplikace apod.)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Soulad zařízení s bezpečnostní politikou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Protokol komunikace zařízení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Kontrola synchronizace ActiveSync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Reset konfigurace, opakované poslání nastavení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Vzdálené ovládání zařízení administrátorem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30C2-54A3-4A9F-ADF6-A08D621277DC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64A9-4F9E-44F0-8447-26C67B0E1821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15600" y="3021120"/>
            <a:ext cx="8140680" cy="81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c3c8c"/>
                </a:solidFill>
                <a:latin typeface="Arial"/>
              </a:rPr>
              <a:t>Nativní funkce zařízení pro MDM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3C57-D93A-40A3-BDAE-2247675AA2ED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7d417"/>
                </a:solidFill>
                <a:latin typeface="Arial"/>
              </a:rPr>
              <a:t>Agenda</a:t>
            </a:r>
            <a:endParaRPr b="1" lang="en-US" sz="18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5600" y="1600200"/>
            <a:ext cx="474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Mobilní řešení – obecný přehled, srovnání platforem, hlavní požadavky na MDM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Nativní funkce zařízení pro MDM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Jak si vybrat MDM software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Samsung Knox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Mobilní řešení – datová komunikace, připojení k sítím, problematika data push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System4u a mobilní řešení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2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594400" y="1670040"/>
            <a:ext cx="3349440" cy="40654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Jak lze spravovat zařízení: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c3c8c"/>
                </a:solidFill>
                <a:uFillTx/>
                <a:latin typeface="Arial"/>
              </a:rPr>
              <a:t>Funkčnost MDM je omezena funkcionalitou mobilního zařízení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Politiky protokolu ActiveSync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Různé úrovně podpory politik ActiveSync u různých zařízení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Politiky Exchange Standard a Enterprise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Příkaz wipe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Nedostatečná ochrana zařízení jako celku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Lokální konfigurace zařízení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Např. pro iOS iPhone Configuration Utility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Pro nastavení zařízení je nutné fyzické připojení k zařízení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MDM Software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Využívá nativní funkcionalitu zařízení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Využívá ActiveSync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Využívá vlastní aplikaci (klienta) na zařízení (přístup přes API)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EBF3-1FCB-4412-9302-A15E52531FDD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Různé mobilní platformy a MDM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Apple iOS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Vlastní rozhraní pro správu zařízení (konfigurační profily)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Rozšíření funkčnosti s MDM agentem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Výhoda jednoho výrobce hardwaru a OS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Android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Bez nativního rozhraní pro správu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Rozdíly v OS Android u jednotlivých výrobců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Rozšíření funkcí MDM pomocí Samsung Android SAFE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Rozšíření funkcí pomocí Nitrodesk Touchdown email client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Windows Phone 8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Vlastní rozhraní pro správu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Dojde k výraznému zlepšení u 8.1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C5F5-2AB5-41C8-8CD4-1AF87E553327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7596360" y="2421000"/>
            <a:ext cx="1223640" cy="1366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C:\Users\edward.plch\Desktop\New Web\Android\Android-Logo-3D.jpg"/>
          <p:cNvPicPr/>
          <p:nvPr/>
        </p:nvPicPr>
        <p:blipFill>
          <a:blip r:embed="rId2"/>
          <a:stretch/>
        </p:blipFill>
        <p:spPr>
          <a:xfrm>
            <a:off x="7451640" y="4232160"/>
            <a:ext cx="1513080" cy="1846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Android a MDM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15960" y="1600200"/>
            <a:ext cx="666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58480" indent="-25848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Neexistuje obecný nástroj pro správu zařízení (lokální, vzdálený)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58480" indent="-25848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Problematika více výrobců hardware, různé typy zařízení i operačního systému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58480" indent="-25848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Podpora některých ActiveSync policies pomocí mail klienta Android, rozšíření pomocí klienta Nitrodesk Touchdown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58480" indent="-25848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Značně omezené nativní možnosti administrace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58480" indent="-25848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Pro vývojáře Android: SDK – API pro MDM  </a:t>
            </a:r>
            <a:r>
              <a:rPr b="1" lang="cs-CZ" sz="2000" spc="-1" strike="noStrike">
                <a:solidFill>
                  <a:srgbClr val="3c3c8c"/>
                </a:solidFill>
                <a:latin typeface="Wingdings"/>
                <a:ea typeface="Wingdings"/>
              </a:rPr>
              <a:t></a:t>
            </a:r>
            <a:br>
              <a:rPr sz="2000"/>
            </a:br>
            <a:r>
              <a:rPr b="1" lang="cs-CZ" sz="2000" spc="-1" strike="noStrike">
                <a:solidFill>
                  <a:srgbClr val="3c3c8c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3c3c8c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vývoje vlastní aplikace pro management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58480" indent="-25848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Samsung Approved For Enteprise (SAFE) – rozšíření API pro správu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58480" indent="-25848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Nastavení zařízení pomocí lokálního klienta napojeného na MDM software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58480" indent="-25848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8C60-8557-4153-8DBD-F006389FE03B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7380360" y="1330200"/>
            <a:ext cx="1562040" cy="1847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18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BF2C-FBAD-4734-8478-8A0AF65A8A94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692280" y="1322280"/>
            <a:ext cx="7629480" cy="4869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Hlavní rizika při použití Android ve firmě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2640" indent="-24264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Roztříštěnost platformy Android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649800" indent="-2437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Mnoho výrobců hardwarů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649800" indent="-2437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Velké množství edicí OS Android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42640" indent="-24264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Messaging klient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649800" indent="-2437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Velké množství ActiveSync klientů na různých zařízeních, 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649800" indent="-243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náročný support 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42640" indent="-24264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Kontrola dokumentů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649800" indent="-2437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Přílohy emailů, dokumenty z webmeetings, síťové disky apod.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649800" indent="-2437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Při opuštění sandboxu nebo při uložení do file systému je dokument mimo kontrolu (možnost pouze odebrat dokument z emailu na ActiveSync serveru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649800" indent="-2437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Riziko uložení citlivých dokumentů do cloudových úložišť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42640" indent="-24264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Velké množství aplikací a malware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649800" indent="-2437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Možnost instalace z cizích zdrojů, otevřenost platformy ….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649800" indent="-2437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Pouze strojová kontrola kódu aplikací na Google Play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42640" indent="-24264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Riziko použití VPN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649800" indent="-2437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VPN je navazována pro celé zařízení, nikoliv pro jednu aplikaci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42640" indent="-24264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727F-ACDB-467F-87AA-3F2BCCF312FF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6778800" y="1295280"/>
            <a:ext cx="2076120" cy="2133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C535-9BAD-4132-A624-2039EFDFD97A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15600" y="3021120"/>
            <a:ext cx="8140680" cy="81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c3c8c"/>
                </a:solidFill>
                <a:latin typeface="Arial"/>
              </a:rPr>
              <a:t>Jak si vybrat MDM software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Přední MDM řešení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Potřeba kvalitní podpory od dodavatele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Potřeba porozumět principům mobilní platformy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Potřeba být stále up-to-date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Srovnávací report Gartner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Srovnání iOS MDM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http://www.enterpriseios.com/wiki/Comparison_MDM_Providers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Doporučujeme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Mobile Iron, Citrix XenMobile, BES 10, Good for Enterprise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29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0EB0-7C28-444D-8787-00D27BB507B8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Magic Quadrant Gartner, květen 2013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6463-B994-4CBD-8981-895B01677338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232" name="Obrázek 13" descr=""/>
          <p:cNvPicPr/>
          <p:nvPr/>
        </p:nvPicPr>
        <p:blipFill>
          <a:blip r:embed="rId1"/>
          <a:stretch/>
        </p:blipFill>
        <p:spPr>
          <a:xfrm>
            <a:off x="2519280" y="1989000"/>
            <a:ext cx="4248360" cy="4249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32C4-AC0F-4412-9D6B-FCBC4FA57D6D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15600" y="3021120"/>
            <a:ext cx="8140680" cy="81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c3c8c"/>
                </a:solidFill>
                <a:latin typeface="Arial"/>
              </a:rPr>
              <a:t>Samsung KNOX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Samsung KNOX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= virtuální zařízení ve fyzickém zařízení Android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Rozšíření programu Samsung SAFE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Přináší novou funkcionalitu: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Platform security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2" marL="1076400" indent="-182520">
              <a:spcBef>
                <a:spcPts val="349"/>
              </a:spcBef>
              <a:buClr>
                <a:srgbClr val="3c3c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c3c8c"/>
                </a:solidFill>
                <a:latin typeface="Arial"/>
              </a:rPr>
              <a:t>Secure boot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lvl="2" marL="1076400" indent="-182520">
              <a:spcBef>
                <a:spcPts val="349"/>
              </a:spcBef>
              <a:buClr>
                <a:srgbClr val="3c3c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c3c8c"/>
                </a:solidFill>
                <a:latin typeface="Arial"/>
              </a:rPr>
              <a:t>ARM Trustzone-based Integrity Measurement Architecture (TIMA)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lvl="2" marL="1076400" indent="-182520">
              <a:spcBef>
                <a:spcPts val="349"/>
              </a:spcBef>
              <a:buClr>
                <a:srgbClr val="3c3c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c3c8c"/>
                </a:solidFill>
                <a:latin typeface="Arial"/>
              </a:rPr>
              <a:t>Kernel se zabudovanou technologií Security Enhancements for Android (SE for Android) – řízení přístupu k datům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Rozšířené zabezpečení aplikací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2" marL="1076400" indent="-182520">
              <a:spcBef>
                <a:spcPts val="349"/>
              </a:spcBef>
              <a:buClr>
                <a:srgbClr val="3c3c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c3c8c"/>
                </a:solidFill>
                <a:latin typeface="Arial"/>
              </a:rPr>
              <a:t>Šifrování a správa firemních dat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lvl="2" marL="1076400" indent="-182520">
              <a:spcBef>
                <a:spcPts val="349"/>
              </a:spcBef>
              <a:buClr>
                <a:srgbClr val="3c3c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c3c8c"/>
                </a:solidFill>
                <a:latin typeface="Arial"/>
              </a:rPr>
              <a:t>Izolace firemních aplikací od zbytku systému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Licencováno per device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38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6C2A-8B5B-4D6A-BF90-A7E8DB87FF45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6989760" y="1413000"/>
            <a:ext cx="1581120" cy="21621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15600" y="3021120"/>
            <a:ext cx="8140680" cy="81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c3c8c"/>
                </a:solidFill>
                <a:latin typeface="Arial"/>
              </a:rPr>
              <a:t>Mobilní řešení – obecný přehled, srovnání platforem, hlavní požadavky na MDM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90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3F93-5806-484C-ABD5-7DE435716478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Samsung KNOX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41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263E-2DEE-46C4-A4E7-6B1B2000E906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grpSp>
        <p:nvGrpSpPr>
          <p:cNvPr id="242" name="Skupina 4"/>
          <p:cNvGrpSpPr/>
          <p:nvPr/>
        </p:nvGrpSpPr>
        <p:grpSpPr>
          <a:xfrm>
            <a:off x="2809800" y="1844640"/>
            <a:ext cx="3606840" cy="4168800"/>
            <a:chOff x="2809800" y="1844640"/>
            <a:chExt cx="3606840" cy="4168800"/>
          </a:xfrm>
        </p:grpSpPr>
        <p:pic>
          <p:nvPicPr>
            <p:cNvPr id="243" name="Picture 4" descr=""/>
            <p:cNvPicPr/>
            <p:nvPr/>
          </p:nvPicPr>
          <p:blipFill>
            <a:blip r:embed="rId1"/>
            <a:srcRect l="0" t="0" r="0" b="6661"/>
            <a:stretch/>
          </p:blipFill>
          <p:spPr>
            <a:xfrm>
              <a:off x="3563280" y="1844640"/>
              <a:ext cx="2853360" cy="41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Left Brace 5"/>
            <p:cNvSpPr/>
            <p:nvPr/>
          </p:nvSpPr>
          <p:spPr>
            <a:xfrm>
              <a:off x="2843640" y="3507480"/>
              <a:ext cx="365040" cy="2287440"/>
            </a:xfrm>
            <a:custGeom>
              <a:avLst/>
              <a:gdLst>
                <a:gd name="textAreaLeft" fmla="*/ 233280 w 365040"/>
                <a:gd name="textAreaRight" fmla="*/ 365400 w 365040"/>
                <a:gd name="textAreaTop" fmla="*/ 9360 h 2287440"/>
                <a:gd name="textAreaBottom" fmla="*/ 2278080 h 228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4"/>
                    <a:pt x="10800" y="287"/>
                  </a:cubicBezTo>
                  <a:lnTo>
                    <a:pt x="10800" y="10513"/>
                  </a:lnTo>
                  <a:cubicBezTo>
                    <a:pt x="10800" y="10657"/>
                    <a:pt x="5400" y="10800"/>
                    <a:pt x="0" y="10800"/>
                  </a:cubicBezTo>
                  <a:cubicBezTo>
                    <a:pt x="5400" y="10800"/>
                    <a:pt x="10800" y="10944"/>
                    <a:pt x="10800" y="11087"/>
                  </a:cubicBezTo>
                  <a:lnTo>
                    <a:pt x="10800" y="21313"/>
                  </a:lnTo>
                  <a:cubicBezTo>
                    <a:pt x="10800" y="2145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d42e12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3c8c"/>
                </a:solidFill>
                <a:latin typeface="Arial"/>
              </a:endParaRPr>
            </a:p>
          </p:txBody>
        </p:sp>
        <p:sp>
          <p:nvSpPr>
            <p:cNvPr id="245" name="Left Brace 7"/>
            <p:cNvSpPr/>
            <p:nvPr/>
          </p:nvSpPr>
          <p:spPr>
            <a:xfrm>
              <a:off x="2809800" y="3116880"/>
              <a:ext cx="427680" cy="227520"/>
            </a:xfrm>
            <a:custGeom>
              <a:avLst/>
              <a:gdLst>
                <a:gd name="textAreaLeft" fmla="*/ 273240 w 427680"/>
                <a:gd name="textAreaRight" fmla="*/ 428040 w 427680"/>
                <a:gd name="textAreaTop" fmla="*/ 5760 h 227520"/>
                <a:gd name="textAreaBottom" fmla="*/ 221760 h 22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d42e12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c3c8c"/>
                </a:solidFill>
                <a:latin typeface="Arial"/>
              </a:endParaRPr>
            </a:p>
          </p:txBody>
        </p:sp>
      </p:grpSp>
      <p:sp>
        <p:nvSpPr>
          <p:cNvPr id="246" name="TextBox 8"/>
          <p:cNvSpPr/>
          <p:nvPr/>
        </p:nvSpPr>
        <p:spPr>
          <a:xfrm>
            <a:off x="968040" y="2851200"/>
            <a:ext cx="15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5cb9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5cb9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1279080" y="4259160"/>
            <a:ext cx="121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5cb9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5cb9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MobileIron a Samsung KNOX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15600" y="1600200"/>
            <a:ext cx="467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Správa licencí KNOX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Prodej a distribuce licencí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Vytvoření a smazání kontejneru Knox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Vynucení a nastavení hesla ke kontejneru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Konfigurace emailu v prostředí Knox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Konfigurace zabezpečeného prohlížeče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Instalace aplikací do kontejneru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Konfigurace VPN z prostředí KNOX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Povolení/zakázání kontejneru KNOX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50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F473-E66C-439C-9510-8EF95012AE4B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grpSp>
        <p:nvGrpSpPr>
          <p:cNvPr id="251" name="Skupina 4"/>
          <p:cNvGrpSpPr/>
          <p:nvPr/>
        </p:nvGrpSpPr>
        <p:grpSpPr>
          <a:xfrm>
            <a:off x="5508720" y="2100240"/>
            <a:ext cx="3448080" cy="3317760"/>
            <a:chOff x="5508720" y="2100240"/>
            <a:chExt cx="3448080" cy="3317760"/>
          </a:xfrm>
        </p:grpSpPr>
        <p:pic>
          <p:nvPicPr>
            <p:cNvPr id="252" name="Picture 8" descr=""/>
            <p:cNvPicPr/>
            <p:nvPr/>
          </p:nvPicPr>
          <p:blipFill>
            <a:blip r:embed="rId1"/>
            <a:stretch/>
          </p:blipFill>
          <p:spPr>
            <a:xfrm>
              <a:off x="5508720" y="3140640"/>
              <a:ext cx="3448080" cy="227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4" descr=""/>
            <p:cNvPicPr/>
            <p:nvPr/>
          </p:nvPicPr>
          <p:blipFill>
            <a:blip r:embed="rId2"/>
            <a:stretch/>
          </p:blipFill>
          <p:spPr>
            <a:xfrm>
              <a:off x="6274080" y="2100240"/>
              <a:ext cx="1780560" cy="1040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7A63-82FC-4CD9-860B-6F74D96AB73D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15600" y="3021120"/>
            <a:ext cx="8140680" cy="81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c3c8c"/>
                </a:solidFill>
                <a:latin typeface="Arial"/>
              </a:rPr>
              <a:t>Mobilní řešení – datová komunikace, připojení k sítím, problematika data push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Připojení mobilního zařízení k síti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Média připojení = způsob připojení k internetu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Síť mobilního operátora (EDGE, 3G, 4G)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Wi-Fi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Pevné připojení (přes PC, Bluetooth)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Internet a vlastní sítě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Připojení zařízení přes internet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Síť BlackBerry, Network Operation Center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Good for Enteprise Operation Center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59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9B26-33E3-40C5-ADD8-8617A830C5FB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Přenos dat - běžná síťová infrastruktura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Používaná všemi mobilními platformami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Záleží na zařízení, kam a kdy se připojí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Servery musí být publikované do internetu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Serverové certifikáty, problematika důvěryhodnosti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62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2F45-9FB1-4A85-82D8-929D3653C234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263" name="Obrázek 2" descr=""/>
          <p:cNvPicPr/>
          <p:nvPr/>
        </p:nvPicPr>
        <p:blipFill>
          <a:blip r:embed="rId1"/>
          <a:stretch/>
        </p:blipFill>
        <p:spPr>
          <a:xfrm>
            <a:off x="1547640" y="3933720"/>
            <a:ext cx="6480360" cy="2408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Síťová infrastruktura BlackBerry (… Good podobně)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Používaná zařízeními BlackBerry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Zařízení se může připojit jen do NOC (Network Operation Center), BES server se může připojit jen do NOC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Na zařízení čeká v NOC politika a data = bezpečnostní nastavení budou mít vždy přednost před jinými daty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Šifrování komunikace AES 256 bits, možnost vytvoření a připojení vlastní šifrovací engine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Skutečný data push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66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9D98-A09E-4A05-A4BD-D193E42E89E9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267" name="Obrázek 1" descr=""/>
          <p:cNvPicPr/>
          <p:nvPr/>
        </p:nvPicPr>
        <p:blipFill>
          <a:blip r:embed="rId1"/>
          <a:stretch/>
        </p:blipFill>
        <p:spPr>
          <a:xfrm>
            <a:off x="2195640" y="4508640"/>
            <a:ext cx="6480000" cy="1798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Připojení mobilního zařízení k síti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3880" indent="-26388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Technologie PUSH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07040" indent="-2653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Co je to PUSH – vynucené doručení dat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07040" indent="-2653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Proč je PUSH důležité u mobilních zařízení?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07040" indent="-2653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Jak technicky PUSH funguje?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07040" indent="-2653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PUSH v operačním systému a v aplikacích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07040" indent="-2653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QUASI PUSH – pull, SMS, persistant TCP/IP vyvolané aplikací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07040" indent="-2653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Co je to notifikace?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07040" indent="-2653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Přenos notifikace x přenos dat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Řešení PUSH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07040" indent="-2653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BlackBerry – RIM Network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07040" indent="-2653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iOS - Apple Push Notification Service (APNS)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07040" indent="-26532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Android – GCM (Google Cloud Messaging) , C2DM (Cloud to Device Messaging Service), open source a placená řešení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2" marL="1065600" indent="-180360">
              <a:spcBef>
                <a:spcPts val="349"/>
              </a:spcBef>
              <a:buClr>
                <a:srgbClr val="3c3c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c3c8c"/>
                </a:solidFill>
                <a:latin typeface="Arial"/>
              </a:rPr>
              <a:t>https://developers.google.com/android/c2dm/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marL="263880" indent="-263880">
              <a:spcBef>
                <a:spcPts val="34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3024-F493-4709-AE7F-E1BF99FB8352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PUSH – Apple APNS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Používáno od iOS 3.0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Notifikace pomocí MDM serveru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Doručována je pouze notifikace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Registrace MDM serveru posílajícího notifikace pomocí certifikátu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99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c3c8c"/>
                </a:solidFill>
                <a:latin typeface="Arial"/>
              </a:rPr>
              <a:t>https://identity.apple.com/pushcert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Apple Developer API, dokumentace pro vývojáře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73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0FD9-5C11-4E9D-BCE4-BC21AC0B7ACE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274" name="Picture 2" descr="http://boxedice.files.wordpress.com/2009/07/remote_notif_simple.jpg"/>
          <p:cNvPicPr/>
          <p:nvPr/>
        </p:nvPicPr>
        <p:blipFill>
          <a:blip r:embed="rId1"/>
          <a:stretch/>
        </p:blipFill>
        <p:spPr>
          <a:xfrm>
            <a:off x="1116000" y="4941720"/>
            <a:ext cx="6210360" cy="8575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PUSH – Google GCM (C2MS)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Používáno od Android 2.2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Aplikace nemusí běžet – systém aplikaci nastartuje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Doručována je pouze notifikace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Propojeno s Google services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Uživatel musí mít google account na mobilním zařízení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Kompletní dokumentace pro vývojáře, API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24BE-77BB-45E3-8779-D27108F7525E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278" name="Picture 2" descr="C:\Users\edward.plch\Desktop\New Web\Android\Android-Logo-3D.jpg"/>
          <p:cNvPicPr/>
          <p:nvPr/>
        </p:nvPicPr>
        <p:blipFill>
          <a:blip r:embed="rId1"/>
          <a:stretch/>
        </p:blipFill>
        <p:spPr>
          <a:xfrm>
            <a:off x="1763640" y="4221000"/>
            <a:ext cx="1933560" cy="23623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187F-B23E-417F-8C26-D25446B89A5E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15600" y="3021120"/>
            <a:ext cx="8140680" cy="81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c3c8c"/>
                </a:solidFill>
                <a:latin typeface="Arial"/>
              </a:rPr>
              <a:t>System4u a mobilní řešení</a:t>
            </a: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Firemní mobilní řešení – současný stav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Rostoucí podíl iOS a Android ve firmách, tlaky managementu na jejich zavedení;  Windows Phone 8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Tržní podíly dle OS Apple, Android (HTC, Samsung), BlackBerry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BlackBerry 10, BES 10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Bezpečnostní otázky iOS, Android a WP8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BRING YOUR OWN DEVICE (BYOD)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Plus a minus BYOD, právní otázky, rozsah kontroly nad zařízením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Více mobilních platforem v jedné firmě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Nároky na správu, finanční náklady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99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1C50-A399-4B9B-9BBC-CB9147590E19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System4u a mobilní zařízení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15600" y="1600200"/>
            <a:ext cx="5692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Práce s firemními mobilními řešeními od roku 2007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Detailní znalost hlavních mobilních platforem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Centrum podpory 24/7/365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Komplexní služby Enterprise mobility (konzultace, návrh, licence, implementace, školení, podpora, vývoj mobilních aplikací)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Máme mezi námi mobilní nadšence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Jsme pružná firma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Zákazníkovi navrhneme optimální MDM dle jeho potřeb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Velká podobnost MDM řešení, liší se detaily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Jsme partnerem MobileIron,  Citrix, BlackBerry, Samsung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Známe i  jiná MDM řešení, máme ucelený přehled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1331-2A97-48A9-92A2-6225F397E141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grpSp>
        <p:nvGrpSpPr>
          <p:cNvPr id="285" name="Skupina 4"/>
          <p:cNvGrpSpPr/>
          <p:nvPr/>
        </p:nvGrpSpPr>
        <p:grpSpPr>
          <a:xfrm>
            <a:off x="6700680" y="1442880"/>
            <a:ext cx="2225880" cy="4748400"/>
            <a:chOff x="6700680" y="1442880"/>
            <a:chExt cx="2225880" cy="4748400"/>
          </a:xfrm>
        </p:grpSpPr>
        <p:pic>
          <p:nvPicPr>
            <p:cNvPr id="286" name="Picture 2" descr=""/>
            <p:cNvPicPr/>
            <p:nvPr/>
          </p:nvPicPr>
          <p:blipFill>
            <a:blip r:embed="rId1"/>
            <a:stretch/>
          </p:blipFill>
          <p:spPr>
            <a:xfrm>
              <a:off x="6802920" y="1990080"/>
              <a:ext cx="2066400" cy="75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2" descr=""/>
            <p:cNvPicPr/>
            <p:nvPr/>
          </p:nvPicPr>
          <p:blipFill>
            <a:blip r:embed="rId2"/>
            <a:stretch/>
          </p:blipFill>
          <p:spPr>
            <a:xfrm>
              <a:off x="7578360" y="4936680"/>
              <a:ext cx="1260720" cy="12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1" descr=""/>
            <p:cNvPicPr/>
            <p:nvPr/>
          </p:nvPicPr>
          <p:blipFill>
            <a:blip r:embed="rId3"/>
            <a:stretch/>
          </p:blipFill>
          <p:spPr>
            <a:xfrm>
              <a:off x="6700680" y="1442880"/>
              <a:ext cx="2148840" cy="38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3" descr=""/>
            <p:cNvPicPr/>
            <p:nvPr/>
          </p:nvPicPr>
          <p:blipFill>
            <a:blip r:embed="rId4"/>
            <a:stretch/>
          </p:blipFill>
          <p:spPr>
            <a:xfrm>
              <a:off x="7262640" y="3628800"/>
              <a:ext cx="1663920" cy="931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15600" y="1600200"/>
            <a:ext cx="8140680" cy="28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8c"/>
              </a:solidFill>
              <a:latin typeface="Arial"/>
            </a:endParaRPr>
          </a:p>
          <a:p>
            <a:pPr marL="2667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ĚKUJI ZA POZORNOST</a:t>
            </a:r>
            <a:endParaRPr b="0" lang="en-US" sz="28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927080" y="5591160"/>
            <a:ext cx="5613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6760" indent="-266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Daniel Vodrážka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řezen 2014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Koncepce MDM software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Správa celého zařízení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Používá většina výrobců MDM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Zařízení komunikuje přímo se serverem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Nutná kontrola a zabezpečení všech firemních aplikací (email, kalendář, browser atd.)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Sandboxed řešení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Good for Enterprise, BES 10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BlackBerry 10. Samsung Knox – oddělené prostředí na úrovni HW a OS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Vlastní sandboxed aplikace, v ní jsou groupware klienti a browser, dokumenty, instant messaging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Vlastní šifrování dat uložených v zařízení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Vlastní Network Operation Center, MDM přenáší data i konfiguraci, šifrování AES 256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714240" indent="-268200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Sandboxed řešení pomocí Application wrapping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96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1A32-EFB7-46F2-ACAF-211B615D44C3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B512-57A2-480F-8A74-03A6E4BB73CF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079640" y="1328760"/>
            <a:ext cx="6635520" cy="49766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Mobilní řešení – hlavní požadavky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c3c8c"/>
                </a:solidFill>
                <a:latin typeface="Arial"/>
              </a:rPr>
              <a:t>Doporučujeme požadavky rozdělit na potřebné a nepotřebné s delším časovým výhledem.</a:t>
            </a:r>
            <a:endParaRPr b="0" lang="en-US" sz="14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Přístup k firemním zdrojům = data v zařízení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Groupware (Exchange a jiné mail servery)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Úložiště dokumentů a práce s nimi (MS SharePoint)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Přístup k intranetovým aplikacím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Přístup pomocí VPN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Přístup k firemní Wi-Fi (ověřování certifikáty)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Správa zařízení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 lvl="1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Přihlášení zařízení pod firemní správu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Zabezpečení zařízení a dat, oddělení soukromých a firemních dat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Nastavení, správa a kontrola zařízení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Řízení přístupu do firemní sítě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Správa aplikací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Kontrola firemních dokumentů v zařízení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>
              <a:spcBef>
                <a:spcPts val="400"/>
              </a:spcBef>
              <a:buClr>
                <a:srgbClr val="3c3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c3c8c"/>
                </a:solidFill>
                <a:latin typeface="Arial"/>
              </a:rPr>
              <a:t>Podpora uživatelů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7BF7-B7C8-4295-B681-62BE853E6086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7327800" y="4465800"/>
            <a:ext cx="1679760" cy="17254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Způsob přihlášení zařízení pod firemní správu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15600" y="1600200"/>
            <a:ext cx="814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c3c8c"/>
                </a:solidFill>
                <a:latin typeface="Arial"/>
              </a:rPr>
              <a:t>Propojení s Active Directory nebo jinou LDAP, podpora skupin AD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c3c8c"/>
                </a:solidFill>
                <a:uFillTx/>
                <a:latin typeface="Arial"/>
              </a:rPr>
              <a:t>Kroky na straně administrátora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Kroky administrátora, než se může uživatel připojit (založení uživatele v MDM, členství ve skupinách atd.)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c3c8c"/>
                </a:solidFill>
                <a:uFillTx/>
                <a:latin typeface="Arial"/>
              </a:rPr>
              <a:t>Kroky na straně uživatele</a:t>
            </a:r>
            <a:endParaRPr b="0" lang="en-US" sz="2000" spc="-1" strike="noStrike">
              <a:solidFill>
                <a:srgbClr val="3c3c8c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Podobný postup u všech mobilních platforem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3c3c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Stažení MDM klienta (Apple AppStore, Google Play, interní distribuce)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3c3c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Zadání adresy MDM serveru – u některých MDM není nutné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3c3c8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Stažení a aplikace profilů a nastavení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Různé úrovně ověření uživatele při registraci zařízení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Jméno a heslo – z Active Directory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 lvl="1" marL="800280" indent="-343080">
              <a:spcBef>
                <a:spcPts val="400"/>
              </a:spcBef>
              <a:buClr>
                <a:srgbClr val="3c3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c3c8c"/>
                </a:solidFill>
                <a:latin typeface="Arial"/>
              </a:rPr>
              <a:t>Aktivační heslo, PIN kód, kombinace</a:t>
            </a: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d42e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c3c8c"/>
              </a:solidFill>
              <a:latin typeface="Arial"/>
            </a:endParaRPr>
          </a:p>
        </p:txBody>
      </p:sp>
      <p:sp>
        <p:nvSpPr>
          <p:cNvPr id="106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DC7D-A46A-4A62-A10B-D83C755E59AF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280" y="236160"/>
            <a:ext cx="58482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d417"/>
                </a:solidFill>
                <a:latin typeface="Arial"/>
              </a:rPr>
              <a:t>Způsob přihlášení zařízení pod firemní správu</a:t>
            </a:r>
            <a:endParaRPr b="1" lang="en-US" sz="2000" spc="-1" strike="noStrike">
              <a:solidFill>
                <a:srgbClr val="f7d417"/>
              </a:solidFill>
              <a:latin typeface="Arial"/>
            </a:endParaRPr>
          </a:p>
        </p:txBody>
      </p:sp>
      <p:sp>
        <p:nvSpPr>
          <p:cNvPr id="108" name="Zástupný symbol pro číslo snímku 3"/>
          <p:cNvSpPr/>
          <p:nvPr/>
        </p:nvSpPr>
        <p:spPr>
          <a:xfrm>
            <a:off x="8167680" y="6191280"/>
            <a:ext cx="588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DD70-14B7-4D17-A5A6-7F2ADC60B501}" type="slidenum">
              <a:rPr b="0" lang="cs-CZ" sz="1400" spc="-1" strike="noStrike">
                <a:solidFill>
                  <a:srgbClr val="3c3c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c3c8c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476360" y="135252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4:57:32Z</dcterms:created>
  <dc:creator>Jiří Kinský</dc:creator>
  <dc:description/>
  <dc:language>en-US</dc:language>
  <cp:lastModifiedBy>PC</cp:lastModifiedBy>
  <dcterms:modified xsi:type="dcterms:W3CDTF">2015-08-03T15:20:16Z</dcterms:modified>
  <cp:revision>64</cp:revision>
  <dc:subject/>
  <dc:title>NÁZEV PREZENTACE</dc:title>
</cp:coreProperties>
</file>